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1E5-D7FA-4CD3-B639-961CAD58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A40-18D8-4CBD-B9E7-4F4FF4B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FBC-1D77-437D-B25E-27D99E7A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541-6E2E-4BA6-B39B-38D89003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E5A-FFCD-4ED3-81CB-F245BDB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2CE-6EFC-4FFB-B3A7-11F97C27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63E-ABEA-4B8A-8AC7-D8A8D8E7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514-1DF0-42AF-99DF-BEA2B84C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AD9-1505-42A8-B11F-FCC60BD3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EC4-009E-47C5-9621-A29C5904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266-C3F9-4807-A563-F5AFF69B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98A-DBAA-4A23-8B0B-87ABD2BB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D590F8-9280-435D-8637-9622A5F7C28F}" type="datetime13">
              <a:rPr b="0" lang="he-IL" sz="1400" spc="-1" strike="noStrike">
                <a:solidFill>
                  <a:srgbClr val="000000"/>
                </a:solidFill>
                <a:latin typeface="Arial"/>
              </a:rPr>
              <a:t>10:30:27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DB31-EE75-407A-A46F-CC15EE4F42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0.png"/><Relationship Id="rId21" Type="http://schemas.openxmlformats.org/officeDocument/2006/relationships/image" Target="../media/image19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0.png"/><Relationship Id="rId21" Type="http://schemas.openxmlformats.org/officeDocument/2006/relationships/image" Target="../media/image19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0.png"/><Relationship Id="rId21" Type="http://schemas.openxmlformats.org/officeDocument/2006/relationships/image" Target="../media/image19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0.png"/><Relationship Id="rId21" Type="http://schemas.openxmlformats.org/officeDocument/2006/relationships/image" Target="../media/image19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2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3.xlsx"/><Relationship Id="rId10" Type="http://schemas.openxmlformats.org/officeDocument/2006/relationships/image" Target="../media/image8.wmf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981440" cy="179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952560" cy="838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75248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a2300"/>
                </a:solidFill>
                <a:latin typeface="Arial"/>
              </a:rPr>
              <a:t>Data MOC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505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ata </a:t>
            </a: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MO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del for </a:t>
            </a: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all </a:t>
            </a: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enter </a:t>
            </a:r>
            <a:r>
              <a:rPr b="1" lang="en-US" sz="2800" spc="-1" strike="noStrike" u="sng">
                <a:solidFill>
                  <a:srgbClr val="ba23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ba2300"/>
                </a:solidFill>
                <a:latin typeface="Arial"/>
              </a:rPr>
              <a:t>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266724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4114800"/>
            <a:ext cx="87631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Project Collaborator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Technion:    Prof. Paul Feigin, Avi Mandelba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Dr. Valery Trofimov, Students, Technion Statistics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harton:      Prof. Larry Brown, Dr. Noah Gans, Dr. Haipeng Shen (N. Carolina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Students, Wharton Financial Institution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Companies: U.S. Bank, Israeli Cellular Phone (both Aspect-Ba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914400"/>
            <a:ext cx="39625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 rtl="1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New </a:t>
            </a:r>
            <a:r>
              <a:rPr b="1" lang="en-US" sz="2000" spc="-1" strike="noStrike">
                <a:solidFill>
                  <a:srgbClr val="e42b00"/>
                </a:solidFill>
                <a:latin typeface="Arial"/>
                <a:ea typeface="Arial"/>
              </a:rPr>
              <a:t>User-define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6464160"/>
            <a:ext cx="533160" cy="470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2438280" cy="13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2210040" cy="124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2362320" cy="1312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800600" y="2971800"/>
            <a:ext cx="2133720" cy="1406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3321000"/>
            <a:ext cx="43434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ep 2: Process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rom the desired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5181480" y="4495680"/>
            <a:ext cx="2057400" cy="1217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4800600" y="45720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4981680"/>
            <a:ext cx="43434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ep 3: Creating desired grap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n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34520" y="64310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152388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676520"/>
            <a:ext cx="358128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ep 1:  Entering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312408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64832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534520" y="6354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9144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ily report of April 13,  2004 – Regula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3360" y="965160"/>
            <a:ext cx="8953560" cy="5156280"/>
            <a:chOff x="63360" y="965160"/>
            <a:chExt cx="8953560" cy="5156280"/>
          </a:xfrm>
        </p:grpSpPr>
        <p:sp>
          <p:nvSpPr>
            <p:cNvPr id="169" name=""/>
            <p:cNvSpPr/>
            <p:nvPr/>
          </p:nvSpPr>
          <p:spPr>
            <a:xfrm>
              <a:off x="7873920" y="1735200"/>
              <a:ext cx="1015920" cy="150840"/>
            </a:xfrm>
            <a:prstGeom prst="rightArrow">
              <a:avLst>
                <a:gd name="adj1" fmla="val 50000"/>
                <a:gd name="adj2" fmla="val 16837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73920" y="169848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2080" y="1716120"/>
              <a:ext cx="2031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73920" y="1955880"/>
              <a:ext cx="1015920" cy="150840"/>
            </a:xfrm>
            <a:prstGeom prst="rightArrow">
              <a:avLst>
                <a:gd name="adj1" fmla="val 50000"/>
                <a:gd name="adj2" fmla="val 16837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73920" y="191916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42080" y="1935000"/>
              <a:ext cx="2031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73920" y="2176560"/>
              <a:ext cx="1015920" cy="149040"/>
            </a:xfrm>
            <a:prstGeom prst="rightArrow">
              <a:avLst>
                <a:gd name="adj1" fmla="val 50000"/>
                <a:gd name="adj2" fmla="val 17041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73920" y="213984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42080" y="2155680"/>
              <a:ext cx="2031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7080" y="1235160"/>
              <a:ext cx="1079280" cy="149040"/>
            </a:xfrm>
            <a:prstGeom prst="rightArrow">
              <a:avLst>
                <a:gd name="adj1" fmla="val 50000"/>
                <a:gd name="adj2" fmla="val 181039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360" y="103500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213560" y="1649880"/>
              <a:ext cx="862200" cy="190440"/>
            </a:xfrm>
            <a:prstGeom prst="leftArrow">
              <a:avLst>
                <a:gd name="adj1" fmla="val 50000"/>
                <a:gd name="adj2" fmla="val 11318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1144080" y="17668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060000">
              <a:off x="1412640" y="2229840"/>
              <a:ext cx="2413080" cy="38160"/>
            </a:xfrm>
            <a:prstGeom prst="rightArrow">
              <a:avLst>
                <a:gd name="adj1" fmla="val 50000"/>
                <a:gd name="adj2" fmla="val 1580896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3060000">
              <a:off x="1769760" y="2173320"/>
              <a:ext cx="216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06360" y="965160"/>
              <a:ext cx="889200" cy="7002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7080" y="2576520"/>
              <a:ext cx="1079280" cy="411120"/>
            </a:xfrm>
            <a:prstGeom prst="rightArrow">
              <a:avLst>
                <a:gd name="adj1" fmla="val 50000"/>
                <a:gd name="adj2" fmla="val 6563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60" y="23763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96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1226520" y="2947320"/>
              <a:ext cx="861840" cy="520560"/>
            </a:xfrm>
            <a:prstGeom prst="leftArrow">
              <a:avLst>
                <a:gd name="adj1" fmla="val 50000"/>
                <a:gd name="adj2" fmla="val 4139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973440" y="3214080"/>
              <a:ext cx="63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95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380000">
              <a:off x="1577880" y="3050640"/>
              <a:ext cx="1905120" cy="30240"/>
            </a:xfrm>
            <a:prstGeom prst="rightArrow">
              <a:avLst>
                <a:gd name="adj1" fmla="val 50000"/>
                <a:gd name="adj2" fmla="val 157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380000">
              <a:off x="1974240" y="292392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06360" y="2425680"/>
              <a:ext cx="889200" cy="701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7080" y="3887640"/>
              <a:ext cx="1079280" cy="702000"/>
            </a:xfrm>
            <a:prstGeom prst="rightArrow">
              <a:avLst>
                <a:gd name="adj1" fmla="val 50000"/>
                <a:gd name="adj2" fmla="val 38436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360" y="368784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46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1220040" y="4352040"/>
              <a:ext cx="861840" cy="635040"/>
            </a:xfrm>
            <a:prstGeom prst="leftArrow">
              <a:avLst>
                <a:gd name="adj1" fmla="val 50000"/>
                <a:gd name="adj2" fmla="val 33929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826560" y="4592880"/>
              <a:ext cx="8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5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280000">
              <a:off x="1584000" y="3717720"/>
              <a:ext cx="1892160" cy="490320"/>
            </a:xfrm>
            <a:prstGeom prst="rightArrow">
              <a:avLst>
                <a:gd name="adj1" fmla="val 50000"/>
                <a:gd name="adj2" fmla="val 96476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280000">
              <a:off x="1808640" y="3472920"/>
              <a:ext cx="15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1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06360" y="3887640"/>
              <a:ext cx="889200" cy="7020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7080" y="5580000"/>
              <a:ext cx="1079280" cy="250920"/>
            </a:xfrm>
            <a:prstGeom prst="rightArrow">
              <a:avLst>
                <a:gd name="adj1" fmla="val 50000"/>
                <a:gd name="adj2" fmla="val 107532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360" y="538020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3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540000">
              <a:off x="1413720" y="4610520"/>
              <a:ext cx="2401920" cy="317520"/>
            </a:xfrm>
            <a:prstGeom prst="rightArrow">
              <a:avLst>
                <a:gd name="adj1" fmla="val 50000"/>
                <a:gd name="adj2" fmla="val 189116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8540000">
              <a:off x="1477440" y="4350600"/>
              <a:ext cx="215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3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06360" y="5349960"/>
              <a:ext cx="889200" cy="701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3600" y="3257640"/>
              <a:ext cx="1714320" cy="530280"/>
            </a:xfrm>
            <a:prstGeom prst="rightArrow">
              <a:avLst>
                <a:gd name="adj1" fmla="val 50000"/>
                <a:gd name="adj2" fmla="val 80821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14800" y="3057480"/>
              <a:ext cx="13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2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4380000">
              <a:off x="3212640" y="4484880"/>
              <a:ext cx="2102040" cy="75960"/>
            </a:xfrm>
            <a:prstGeom prst="rightArrow">
              <a:avLst>
                <a:gd name="adj1" fmla="val 50000"/>
                <a:gd name="adj2" fmla="val 691825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4380000">
              <a:off x="3568680" y="452988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2871360" y="4494240"/>
              <a:ext cx="2003400" cy="50760"/>
            </a:xfrm>
            <a:prstGeom prst="rightArrow">
              <a:avLst>
                <a:gd name="adj1" fmla="val 50000"/>
                <a:gd name="adj2" fmla="val 986702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3147840" y="456588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7220000">
              <a:off x="2431800" y="4420800"/>
              <a:ext cx="2102040" cy="203040"/>
            </a:xfrm>
            <a:prstGeom prst="leftArrow">
              <a:avLst>
                <a:gd name="adj1" fmla="val 50000"/>
                <a:gd name="adj2" fmla="val 258821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7220000">
              <a:off x="2314800" y="4514400"/>
              <a:ext cx="180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4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5188680" y="4119840"/>
              <a:ext cx="1801800" cy="596880"/>
            </a:xfrm>
            <a:prstGeom prst="leftArrow">
              <a:avLst>
                <a:gd name="adj1" fmla="val 50000"/>
                <a:gd name="adj2" fmla="val 75467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4939560" y="446580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7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5880" y="3397320"/>
              <a:ext cx="1905120" cy="230040"/>
            </a:xfrm>
            <a:prstGeom prst="rightArrow">
              <a:avLst>
                <a:gd name="adj1" fmla="val 50000"/>
                <a:gd name="adj2" fmla="val 207042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40480" y="319716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1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080000">
              <a:off x="5513400" y="4479480"/>
              <a:ext cx="2193840" cy="114480"/>
            </a:xfrm>
            <a:prstGeom prst="rightArrow">
              <a:avLst>
                <a:gd name="adj1" fmla="val 50000"/>
                <a:gd name="adj2" fmla="val 479088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4080000">
              <a:off x="5905440" y="4521960"/>
              <a:ext cx="189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65640" y="3117960"/>
              <a:ext cx="1015920" cy="79992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87920" y="3117960"/>
              <a:ext cx="1015920" cy="7999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03520" y="5521320"/>
              <a:ext cx="76212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92360" y="5521320"/>
              <a:ext cx="76212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48320" y="5521320"/>
              <a:ext cx="76176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21360" y="5521320"/>
              <a:ext cx="1841760" cy="600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1000" y="3117960"/>
              <a:ext cx="1015920" cy="7999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534520" y="6354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974880"/>
            <a:ext cx="65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ily Report of April 20, 2004 – Heavily Loaded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90440" y="1317600"/>
            <a:ext cx="8953560" cy="4930560"/>
            <a:chOff x="190440" y="1317600"/>
            <a:chExt cx="8953560" cy="4930560"/>
          </a:xfrm>
        </p:grpSpPr>
        <p:sp>
          <p:nvSpPr>
            <p:cNvPr id="233" name=""/>
            <p:cNvSpPr/>
            <p:nvPr/>
          </p:nvSpPr>
          <p:spPr>
            <a:xfrm>
              <a:off x="8001000" y="2055600"/>
              <a:ext cx="1015920" cy="142920"/>
            </a:xfrm>
            <a:prstGeom prst="rightArrow">
              <a:avLst>
                <a:gd name="adj1" fmla="val 50000"/>
                <a:gd name="adj2" fmla="val 177708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01000" y="202068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69160" y="2035080"/>
              <a:ext cx="20318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01000" y="2265120"/>
              <a:ext cx="1015920" cy="144720"/>
            </a:xfrm>
            <a:prstGeom prst="rightArrow">
              <a:avLst>
                <a:gd name="adj1" fmla="val 50000"/>
                <a:gd name="adj2" fmla="val 17549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001000" y="223020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69160" y="2246040"/>
              <a:ext cx="20318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01000" y="2476440"/>
              <a:ext cx="1015920" cy="142920"/>
            </a:xfrm>
            <a:prstGeom prst="rightArrow">
              <a:avLst>
                <a:gd name="adj1" fmla="val 50000"/>
                <a:gd name="adj2" fmla="val 17770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01000" y="244152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69160" y="2457360"/>
              <a:ext cx="20318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4160" y="1595160"/>
              <a:ext cx="1079280" cy="123840"/>
            </a:xfrm>
            <a:prstGeom prst="rightArrow">
              <a:avLst>
                <a:gd name="adj1" fmla="val 50000"/>
                <a:gd name="adj2" fmla="val 21787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440" y="140328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1372320" y="1981440"/>
              <a:ext cx="824040" cy="165240"/>
            </a:xfrm>
            <a:prstGeom prst="leftArrow">
              <a:avLst>
                <a:gd name="adj1" fmla="val 50000"/>
                <a:gd name="adj2" fmla="val 124673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1309320" y="2077920"/>
              <a:ext cx="58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5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3060000">
              <a:off x="1593000" y="2527920"/>
              <a:ext cx="2306880" cy="38160"/>
            </a:xfrm>
            <a:prstGeom prst="rightArrow">
              <a:avLst>
                <a:gd name="adj1" fmla="val 50000"/>
                <a:gd name="adj2" fmla="val 1511321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3060000">
              <a:off x="1944360" y="2467080"/>
              <a:ext cx="206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33440" y="1317600"/>
              <a:ext cx="889200" cy="669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4160" y="2916000"/>
              <a:ext cx="1079280" cy="277920"/>
            </a:xfrm>
            <a:prstGeom prst="rightArrow">
              <a:avLst>
                <a:gd name="adj1" fmla="val 50000"/>
                <a:gd name="adj2" fmla="val 97085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0440" y="27255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6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1373040" y="3277800"/>
              <a:ext cx="822240" cy="368280"/>
            </a:xfrm>
            <a:prstGeom prst="leftArrow">
              <a:avLst>
                <a:gd name="adj1" fmla="val 50000"/>
                <a:gd name="adj2" fmla="val 55816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1312560" y="3369960"/>
              <a:ext cx="58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58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380000">
              <a:off x="1704960" y="3312720"/>
              <a:ext cx="1905120" cy="28440"/>
            </a:xfrm>
            <a:prstGeom prst="rightArrow">
              <a:avLst>
                <a:gd name="adj1" fmla="val 50000"/>
                <a:gd name="adj2" fmla="val 1674684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380000">
              <a:off x="2099880" y="3190320"/>
              <a:ext cx="158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3440" y="2716200"/>
              <a:ext cx="889200" cy="6696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4160" y="4113000"/>
              <a:ext cx="1079280" cy="669960"/>
            </a:xfrm>
            <a:prstGeom prst="rightArrow">
              <a:avLst>
                <a:gd name="adj1" fmla="val 50000"/>
                <a:gd name="adj2" fmla="val 40274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440" y="39225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78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1365840" y="4516920"/>
              <a:ext cx="823680" cy="685800"/>
            </a:xfrm>
            <a:prstGeom prst="leftArrow">
              <a:avLst>
                <a:gd name="adj1" fmla="val 50000"/>
                <a:gd name="adj2" fmla="val 30026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1147320" y="4767120"/>
              <a:ext cx="58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38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0280000">
              <a:off x="1711440" y="3970080"/>
              <a:ext cx="1892160" cy="430200"/>
            </a:xfrm>
            <a:prstGeom prst="rightArrow">
              <a:avLst>
                <a:gd name="adj1" fmla="val 50000"/>
                <a:gd name="adj2" fmla="val 109958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0280000">
              <a:off x="1946520" y="37332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39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33440" y="4113000"/>
              <a:ext cx="889200" cy="669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4160" y="5740200"/>
              <a:ext cx="1079280" cy="211320"/>
            </a:xfrm>
            <a:prstGeom prst="rightArrow">
              <a:avLst>
                <a:gd name="adj1" fmla="val 50000"/>
                <a:gd name="adj2" fmla="val 127683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0440" y="55497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9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540000">
              <a:off x="1587960" y="4813560"/>
              <a:ext cx="2297160" cy="279360"/>
            </a:xfrm>
            <a:prstGeom prst="rightArrow">
              <a:avLst>
                <a:gd name="adj1" fmla="val 50000"/>
                <a:gd name="adj2" fmla="val 205573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540000">
              <a:off x="1660680" y="4554360"/>
              <a:ext cx="205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9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3440" y="5511600"/>
              <a:ext cx="889200" cy="669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00680" y="3547800"/>
              <a:ext cx="1714320" cy="422280"/>
            </a:xfrm>
            <a:prstGeom prst="rightArrow">
              <a:avLst>
                <a:gd name="adj1" fmla="val 50000"/>
                <a:gd name="adj2" fmla="val 101492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44920" y="3357360"/>
              <a:ext cx="13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28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4380000">
              <a:off x="3385080" y="4681800"/>
              <a:ext cx="2011320" cy="76320"/>
            </a:xfrm>
            <a:prstGeom prst="rightArrow">
              <a:avLst>
                <a:gd name="adj1" fmla="val 50000"/>
                <a:gd name="adj2" fmla="val 658844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4380000">
              <a:off x="3735720" y="4720320"/>
              <a:ext cx="172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3042720" y="4690800"/>
              <a:ext cx="1914480" cy="50760"/>
            </a:xfrm>
            <a:prstGeom prst="rightArrow">
              <a:avLst>
                <a:gd name="adj1" fmla="val 50000"/>
                <a:gd name="adj2" fmla="val 942908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3312360" y="4753800"/>
              <a:ext cx="162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7220000">
              <a:off x="2604240" y="4580280"/>
              <a:ext cx="2011320" cy="279360"/>
            </a:xfrm>
            <a:prstGeom prst="leftArrow">
              <a:avLst>
                <a:gd name="adj1" fmla="val 50000"/>
                <a:gd name="adj2" fmla="val 179994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7220000">
              <a:off x="2444760" y="4696920"/>
              <a:ext cx="172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79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5354640" y="4373280"/>
              <a:ext cx="1724040" cy="495000"/>
            </a:xfrm>
            <a:prstGeom prst="leftArrow">
              <a:avLst>
                <a:gd name="adj1" fmla="val 50000"/>
                <a:gd name="adj2" fmla="val 87073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5150160" y="4658400"/>
              <a:ext cx="143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97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22960" y="3663720"/>
              <a:ext cx="1905120" cy="181080"/>
            </a:xfrm>
            <a:prstGeom prst="rightArrow">
              <a:avLst>
                <a:gd name="adj1" fmla="val 50000"/>
                <a:gd name="adj2" fmla="val 263022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7560" y="3471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4080000">
              <a:off x="5695560" y="4679640"/>
              <a:ext cx="2095560" cy="101880"/>
            </a:xfrm>
            <a:prstGeom prst="rightArrow">
              <a:avLst>
                <a:gd name="adj1" fmla="val 50000"/>
                <a:gd name="adj2" fmla="val 514223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4080000">
              <a:off x="6073920" y="4712400"/>
              <a:ext cx="18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92360" y="3376440"/>
              <a:ext cx="1016280" cy="76536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5000" y="3376440"/>
              <a:ext cx="1015920" cy="7653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30600" y="5673600"/>
              <a:ext cx="76176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19440" y="5673600"/>
              <a:ext cx="76212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08640" y="5673600"/>
              <a:ext cx="76176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48440" y="5673600"/>
              <a:ext cx="762120" cy="57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28080" y="3376440"/>
              <a:ext cx="1015920" cy="765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534520" y="6354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9748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ily Report of April 27, 2004 -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3360" y="1116000"/>
            <a:ext cx="8953560" cy="5132520"/>
            <a:chOff x="63360" y="1116000"/>
            <a:chExt cx="8953560" cy="5132520"/>
          </a:xfrm>
        </p:grpSpPr>
        <p:sp>
          <p:nvSpPr>
            <p:cNvPr id="297" name=""/>
            <p:cNvSpPr/>
            <p:nvPr/>
          </p:nvSpPr>
          <p:spPr>
            <a:xfrm>
              <a:off x="63360" y="122580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60" y="248148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6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360" y="382752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68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360" y="5511960"/>
              <a:ext cx="120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94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73920" y="1884600"/>
              <a:ext cx="1015920" cy="149040"/>
            </a:xfrm>
            <a:prstGeom prst="rightArrow">
              <a:avLst>
                <a:gd name="adj1" fmla="val 50000"/>
                <a:gd name="adj2" fmla="val 17041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73920" y="184788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42080" y="1863720"/>
              <a:ext cx="2031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3920" y="2103480"/>
              <a:ext cx="1015920" cy="149400"/>
            </a:xfrm>
            <a:prstGeom prst="rightArrow">
              <a:avLst>
                <a:gd name="adj1" fmla="val 50000"/>
                <a:gd name="adj2" fmla="val 17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3920" y="206712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42080" y="2082960"/>
              <a:ext cx="2031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73920" y="2322720"/>
              <a:ext cx="1015920" cy="149040"/>
            </a:xfrm>
            <a:prstGeom prst="rightArrow">
              <a:avLst>
                <a:gd name="adj1" fmla="val 50000"/>
                <a:gd name="adj2" fmla="val 17041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73920" y="2287800"/>
              <a:ext cx="101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42080" y="2301840"/>
              <a:ext cx="2031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7080" y="1425600"/>
              <a:ext cx="1079280" cy="88920"/>
            </a:xfrm>
            <a:prstGeom prst="rightArrow">
              <a:avLst>
                <a:gd name="adj1" fmla="val 50000"/>
                <a:gd name="adj2" fmla="val 30344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1228680" y="1836360"/>
              <a:ext cx="857160" cy="114480"/>
            </a:xfrm>
            <a:prstGeom prst="leftArrow">
              <a:avLst>
                <a:gd name="adj1" fmla="val 50000"/>
                <a:gd name="adj2" fmla="val 187186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1195560" y="1914120"/>
              <a:ext cx="60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3060000">
              <a:off x="1418400" y="2377080"/>
              <a:ext cx="2401920" cy="38160"/>
            </a:xfrm>
            <a:prstGeom prst="rightArrow">
              <a:avLst>
                <a:gd name="adj1" fmla="val 50000"/>
                <a:gd name="adj2" fmla="val 1573585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3060000">
              <a:off x="1775160" y="2318760"/>
              <a:ext cx="21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06360" y="1116000"/>
              <a:ext cx="889200" cy="698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7080" y="2681280"/>
              <a:ext cx="1079280" cy="487440"/>
            </a:xfrm>
            <a:prstGeom prst="rightArrow">
              <a:avLst>
                <a:gd name="adj1" fmla="val 50000"/>
                <a:gd name="adj2" fmla="val 55355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1229400" y="3037320"/>
              <a:ext cx="855720" cy="622440"/>
            </a:xfrm>
            <a:prstGeom prst="leftArrow">
              <a:avLst>
                <a:gd name="adj1" fmla="val 50000"/>
                <a:gd name="adj2" fmla="val 3437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1046520" y="3261600"/>
              <a:ext cx="6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64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380000">
              <a:off x="1577880" y="3192120"/>
              <a:ext cx="1905120" cy="30240"/>
            </a:xfrm>
            <a:prstGeom prst="rightArrow">
              <a:avLst>
                <a:gd name="adj1" fmla="val 50000"/>
                <a:gd name="adj2" fmla="val 157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0000">
              <a:off x="1977480" y="306828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06360" y="2571840"/>
              <a:ext cx="889200" cy="696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7080" y="4025880"/>
              <a:ext cx="1079280" cy="698760"/>
            </a:xfrm>
            <a:prstGeom prst="rightArrow">
              <a:avLst>
                <a:gd name="adj1" fmla="val 50000"/>
                <a:gd name="adj2" fmla="val 38614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1228680" y="4466880"/>
              <a:ext cx="857160" cy="673200"/>
            </a:xfrm>
            <a:prstGeom prst="leftArrow">
              <a:avLst>
                <a:gd name="adj1" fmla="val 50000"/>
                <a:gd name="adj2" fmla="val 31832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1021320" y="4715640"/>
              <a:ext cx="6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8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280000">
              <a:off x="1582200" y="3868920"/>
              <a:ext cx="1892520" cy="457200"/>
            </a:xfrm>
            <a:prstGeom prst="rightArrow">
              <a:avLst>
                <a:gd name="adj1" fmla="val 50000"/>
                <a:gd name="adj2" fmla="val 103484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280000">
              <a:off x="1813320" y="3622320"/>
              <a:ext cx="15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9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06360" y="4025880"/>
              <a:ext cx="889200" cy="698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80" y="5710320"/>
              <a:ext cx="1079280" cy="228600"/>
            </a:xfrm>
            <a:prstGeom prst="rightArrow">
              <a:avLst>
                <a:gd name="adj1" fmla="val 50000"/>
                <a:gd name="adj2" fmla="val 118031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8540000">
              <a:off x="1408680" y="4750920"/>
              <a:ext cx="2392560" cy="291960"/>
            </a:xfrm>
            <a:prstGeom prst="rightArrow">
              <a:avLst>
                <a:gd name="adj1" fmla="val 50000"/>
                <a:gd name="adj2" fmla="val 204871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540000">
              <a:off x="1482840" y="4486320"/>
              <a:ext cx="214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94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06360" y="5481720"/>
              <a:ext cx="889200" cy="696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73600" y="3417840"/>
              <a:ext cx="1714320" cy="479520"/>
            </a:xfrm>
            <a:prstGeom prst="rightArrow">
              <a:avLst>
                <a:gd name="adj1" fmla="val 50000"/>
                <a:gd name="adj2" fmla="val 8937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17840" y="3219480"/>
              <a:ext cx="13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15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380000">
              <a:off x="3222000" y="4611600"/>
              <a:ext cx="2092320" cy="88920"/>
            </a:xfrm>
            <a:prstGeom prst="rightArrow">
              <a:avLst>
                <a:gd name="adj1" fmla="val 50000"/>
                <a:gd name="adj2" fmla="val 588259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4380000">
              <a:off x="3584880" y="4659840"/>
              <a:ext cx="17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2883240" y="4634640"/>
              <a:ext cx="1992600" cy="38160"/>
            </a:xfrm>
            <a:prstGeom prst="rightArrow">
              <a:avLst>
                <a:gd name="adj1" fmla="val 50000"/>
                <a:gd name="adj2" fmla="val 1305425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3151800" y="4700160"/>
              <a:ext cx="169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7220000">
              <a:off x="2431800" y="4560840"/>
              <a:ext cx="2092320" cy="190440"/>
            </a:xfrm>
            <a:prstGeom prst="leftArrow">
              <a:avLst>
                <a:gd name="adj1" fmla="val 50000"/>
                <a:gd name="adj2" fmla="val 274669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7220000">
              <a:off x="2318400" y="4648320"/>
              <a:ext cx="17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5198760" y="4274640"/>
              <a:ext cx="1793880" cy="558720"/>
            </a:xfrm>
            <a:prstGeom prst="leftArrow">
              <a:avLst>
                <a:gd name="adj1" fmla="val 50000"/>
                <a:gd name="adj2" fmla="val 80267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4969080" y="4600080"/>
              <a:ext cx="149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58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578400"/>
              <a:ext cx="1905120" cy="168120"/>
            </a:xfrm>
            <a:prstGeom prst="rightArrow">
              <a:avLst>
                <a:gd name="adj1" fmla="val 50000"/>
                <a:gd name="adj2" fmla="val 283298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40480" y="33782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4080000">
              <a:off x="5518800" y="4613760"/>
              <a:ext cx="2183040" cy="114480"/>
            </a:xfrm>
            <a:prstGeom prst="rightArrow">
              <a:avLst>
                <a:gd name="adj1" fmla="val 50000"/>
                <a:gd name="adj2" fmla="val 47673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4080000">
              <a:off x="5910480" y="4656960"/>
              <a:ext cx="188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5640" y="3259080"/>
              <a:ext cx="1015920" cy="79704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87920" y="3259080"/>
              <a:ext cx="1015920" cy="79704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03520" y="565020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92360" y="565020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81560" y="565020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21360" y="5650200"/>
              <a:ext cx="762120" cy="598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01000" y="3259080"/>
              <a:ext cx="1015920" cy="7970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8534520" y="6354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9144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ily Report of May 4, 2004 – Regula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360" y="1176480"/>
            <a:ext cx="12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360" y="2421000"/>
            <a:ext cx="12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1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360" y="3637080"/>
            <a:ext cx="12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7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360" y="5207040"/>
            <a:ext cx="12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27080" y="1112760"/>
            <a:ext cx="8889840" cy="4780080"/>
            <a:chOff x="127080" y="1112760"/>
            <a:chExt cx="8889840" cy="4780080"/>
          </a:xfrm>
        </p:grpSpPr>
        <p:sp>
          <p:nvSpPr>
            <p:cNvPr id="365" name=""/>
            <p:cNvSpPr/>
            <p:nvPr/>
          </p:nvSpPr>
          <p:spPr>
            <a:xfrm>
              <a:off x="7873920" y="1827360"/>
              <a:ext cx="1015920" cy="137880"/>
            </a:xfrm>
            <a:prstGeom prst="rightArrow">
              <a:avLst>
                <a:gd name="adj1" fmla="val 50000"/>
                <a:gd name="adj2" fmla="val 1842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42080" y="1808280"/>
              <a:ext cx="20318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73920" y="2031840"/>
              <a:ext cx="1015920" cy="138240"/>
            </a:xfrm>
            <a:prstGeom prst="rightArrow">
              <a:avLst>
                <a:gd name="adj1" fmla="val 50000"/>
                <a:gd name="adj2" fmla="val 18372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42080" y="2013120"/>
              <a:ext cx="20318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73920" y="2235240"/>
              <a:ext cx="1015920" cy="138240"/>
            </a:xfrm>
            <a:prstGeom prst="rightArrow">
              <a:avLst>
                <a:gd name="adj1" fmla="val 50000"/>
                <a:gd name="adj2" fmla="val 18372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42080" y="2216160"/>
              <a:ext cx="20318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normal 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080" y="1362240"/>
              <a:ext cx="1079280" cy="158760"/>
            </a:xfrm>
            <a:prstGeom prst="rightArrow">
              <a:avLst>
                <a:gd name="adj1" fmla="val 50000"/>
                <a:gd name="adj2" fmla="val 169955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1258920" y="1728720"/>
              <a:ext cx="797040" cy="216000"/>
            </a:xfrm>
            <a:prstGeom prst="leftArrow">
              <a:avLst>
                <a:gd name="adj1" fmla="val 50000"/>
                <a:gd name="adj2" fmla="val 9225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1165320" y="1842480"/>
              <a:ext cx="56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3060000">
              <a:off x="1500120" y="2284200"/>
              <a:ext cx="2238120" cy="38160"/>
            </a:xfrm>
            <a:prstGeom prst="rightArrow">
              <a:avLst>
                <a:gd name="adj1" fmla="val 50000"/>
                <a:gd name="adj2" fmla="val 1466274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3060000">
              <a:off x="1848240" y="221868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06360" y="1112760"/>
              <a:ext cx="889200" cy="647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7080" y="2606760"/>
              <a:ext cx="1079280" cy="371520"/>
            </a:xfrm>
            <a:prstGeom prst="rightArrow">
              <a:avLst>
                <a:gd name="adj1" fmla="val 50000"/>
                <a:gd name="adj2" fmla="val 72626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1251720" y="2937600"/>
              <a:ext cx="798480" cy="507960"/>
            </a:xfrm>
            <a:prstGeom prst="leftArrow">
              <a:avLst>
                <a:gd name="adj1" fmla="val 50000"/>
                <a:gd name="adj2" fmla="val 39298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945360" y="3135600"/>
              <a:ext cx="69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380000">
              <a:off x="1577880" y="3045960"/>
              <a:ext cx="1905120" cy="28800"/>
            </a:xfrm>
            <a:prstGeom prst="rightArrow">
              <a:avLst>
                <a:gd name="adj1" fmla="val 50000"/>
                <a:gd name="adj2" fmla="val 165375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380000">
              <a:off x="1971360" y="2925360"/>
              <a:ext cx="158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06360" y="2468520"/>
              <a:ext cx="889200" cy="647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nou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080" y="3822840"/>
              <a:ext cx="1079280" cy="649080"/>
            </a:xfrm>
            <a:prstGeom prst="rightArrow">
              <a:avLst>
                <a:gd name="adj1" fmla="val 50000"/>
                <a:gd name="adj2" fmla="val 4157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1246320" y="4222440"/>
              <a:ext cx="796680" cy="647640"/>
            </a:xfrm>
            <a:prstGeom prst="leftArrow">
              <a:avLst>
                <a:gd name="adj1" fmla="val 50000"/>
                <a:gd name="adj2" fmla="val 30753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866160" y="4488120"/>
              <a:ext cx="69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33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280000">
              <a:off x="1582200" y="3666600"/>
              <a:ext cx="1892520" cy="444600"/>
            </a:xfrm>
            <a:prstGeom prst="rightArrow">
              <a:avLst>
                <a:gd name="adj1" fmla="val 50000"/>
                <a:gd name="adj2" fmla="val 10641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280000">
              <a:off x="1811520" y="34380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94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06360" y="3822840"/>
              <a:ext cx="889200" cy="649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7080" y="5391000"/>
              <a:ext cx="1079280" cy="233640"/>
            </a:xfrm>
            <a:prstGeom prst="rightArrow">
              <a:avLst>
                <a:gd name="adj1" fmla="val 50000"/>
                <a:gd name="adj2" fmla="val 115485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8540000">
              <a:off x="1501200" y="4480200"/>
              <a:ext cx="2227320" cy="317520"/>
            </a:xfrm>
            <a:prstGeom prst="rightArrow">
              <a:avLst>
                <a:gd name="adj1" fmla="val 50000"/>
                <a:gd name="adj2" fmla="val 175368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8540000">
              <a:off x="1555920" y="4240080"/>
              <a:ext cx="19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9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6360" y="5178600"/>
              <a:ext cx="889200" cy="649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73600" y="3238560"/>
              <a:ext cx="1714320" cy="490320"/>
            </a:xfrm>
            <a:prstGeom prst="rightArrow">
              <a:avLst>
                <a:gd name="adj1" fmla="val 50000"/>
                <a:gd name="adj2" fmla="val 87408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17840" y="3052800"/>
              <a:ext cx="13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659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4380000">
              <a:off x="3282840" y="4379760"/>
              <a:ext cx="1949400" cy="63360"/>
            </a:xfrm>
            <a:prstGeom prst="rightArrow">
              <a:avLst>
                <a:gd name="adj1" fmla="val 50000"/>
                <a:gd name="adj2" fmla="val 769176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4380000">
              <a:off x="3623040" y="4410720"/>
              <a:ext cx="167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2945160" y="4382280"/>
              <a:ext cx="1855800" cy="50760"/>
            </a:xfrm>
            <a:prstGeom prst="rightArrow">
              <a:avLst>
                <a:gd name="adj1" fmla="val 50000"/>
                <a:gd name="adj2" fmla="val 914007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3209040" y="4441320"/>
              <a:ext cx="157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7220000">
              <a:off x="2503440" y="4314600"/>
              <a:ext cx="1949400" cy="190440"/>
            </a:xfrm>
            <a:prstGeom prst="leftArrow">
              <a:avLst>
                <a:gd name="adj1" fmla="val 50000"/>
                <a:gd name="adj2" fmla="val 255907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7220000">
              <a:off x="2380320" y="4393080"/>
              <a:ext cx="167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87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5261040" y="4022280"/>
              <a:ext cx="1670040" cy="584280"/>
            </a:xfrm>
            <a:prstGeom prst="leftArrow">
              <a:avLst>
                <a:gd name="adj1" fmla="val 50000"/>
                <a:gd name="adj2" fmla="val 71457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6200000">
              <a:off x="5006880" y="4344480"/>
              <a:ext cx="139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60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95880" y="3368520"/>
              <a:ext cx="1905120" cy="212760"/>
            </a:xfrm>
            <a:prstGeom prst="rightArrow">
              <a:avLst>
                <a:gd name="adj1" fmla="val 50000"/>
                <a:gd name="adj2" fmla="val 223858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0480" y="318132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4080000">
              <a:off x="5593680" y="4366080"/>
              <a:ext cx="2033640" cy="114480"/>
            </a:xfrm>
            <a:prstGeom prst="rightArrow">
              <a:avLst>
                <a:gd name="adj1" fmla="val 50000"/>
                <a:gd name="adj2" fmla="val 444104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4080000">
              <a:off x="5973840" y="4401360"/>
              <a:ext cx="17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65640" y="3106800"/>
              <a:ext cx="1015920" cy="74448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f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87920" y="3106800"/>
              <a:ext cx="1015920" cy="74448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03520" y="5335560"/>
              <a:ext cx="762120" cy="55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92360" y="5335560"/>
              <a:ext cx="762120" cy="55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and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81560" y="5335560"/>
              <a:ext cx="762120" cy="55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5335560"/>
              <a:ext cx="762120" cy="55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01000" y="3106800"/>
              <a:ext cx="1015920" cy="74448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inu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oject 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90720"/>
            <a:ext cx="9144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Project Goal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:  Designing and Implemen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a (universal) data-base/data-reposi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and interface for storing, retrieving, analyz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and displaying Call-by-Call-bas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276720"/>
            <a:ext cx="87631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Enable the study of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25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25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Service Providers /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25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b00"/>
                </a:solidFill>
                <a:latin typeface="Arial"/>
              </a:rPr>
              <a:t>Managers /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6388200"/>
            <a:ext cx="533520" cy="469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95680" y="3962520"/>
            <a:ext cx="4648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Wait Time, Abandonment, Re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257800"/>
            <a:ext cx="3962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Queue Lengths, Loads,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572000"/>
            <a:ext cx="4648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Service Time, Activ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81680" y="1371600"/>
            <a:ext cx="1905120" cy="176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534520" y="63244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oject Data MOCCA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838080"/>
            <a:ext cx="746784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System Components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lean databases: operational-data of individual         calls, agents and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riendly yet powerful Interface: enables timely, convenient and fast access to (mostly) operational and (some) administrative data (but no financi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4640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urrently two active data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8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US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8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Israeli Cellular phon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934320" y="4724280"/>
            <a:ext cx="1828800" cy="1409400"/>
            <a:chOff x="6934320" y="4724280"/>
            <a:chExt cx="1828800" cy="14094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6934320" y="4724280"/>
              <a:ext cx="137160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7086600" y="4868640"/>
              <a:ext cx="137160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7239240" y="5013360"/>
              <a:ext cx="137160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7391520" y="5157720"/>
              <a:ext cx="1371600" cy="97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6629400" y="1295280"/>
            <a:ext cx="2285640" cy="1371240"/>
            <a:chOff x="6629400" y="1295280"/>
            <a:chExt cx="2285640" cy="1371240"/>
          </a:xfrm>
        </p:grpSpPr>
        <p:graphicFrame>
          <p:nvGraphicFramePr>
            <p:cNvPr id="72" name=""/>
            <p:cNvGraphicFramePr/>
            <p:nvPr/>
          </p:nvGraphicFramePr>
          <p:xfrm>
            <a:off x="6629400" y="1295280"/>
            <a:ext cx="1758240" cy="1026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29400" y="1295280"/>
                      <a:ext cx="1758240" cy="102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6805440" y="1463760"/>
            <a:ext cx="1757880" cy="101268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05440" y="1463760"/>
                      <a:ext cx="175788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7068960" y="1632600"/>
            <a:ext cx="1846080" cy="103392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68960" y="1632600"/>
                      <a:ext cx="1846080" cy="10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76320" y="6464160"/>
            <a:ext cx="533160" cy="470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534520" y="64310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– Cal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282680"/>
            <a:ext cx="800100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he databases include detailed information on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coming/outgoing/transfer ca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gents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alls are divided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gments (= first listening/queueing, then servic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ypic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VRU (Voice Response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Messages/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7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Age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429000" y="2666880"/>
            <a:ext cx="5257800" cy="596880"/>
            <a:chOff x="3429000" y="2666880"/>
            <a:chExt cx="5257800" cy="596880"/>
          </a:xfrm>
        </p:grpSpPr>
        <p:sp>
          <p:nvSpPr>
            <p:cNvPr id="86" name=""/>
            <p:cNvSpPr/>
            <p:nvPr/>
          </p:nvSpPr>
          <p:spPr>
            <a:xfrm flipH="1">
              <a:off x="3674880" y="2666880"/>
              <a:ext cx="47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75240" y="3047760"/>
              <a:ext cx="47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46640" y="266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2400" y="266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21120" y="274284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V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40560" y="289548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9000" y="289548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27428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66"/>
                  </a:solidFill>
                  <a:latin typeface="Arial"/>
                </a:rPr>
                <a:t>Messages/Announc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6400" y="27428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4520" y="63244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914400"/>
            <a:ext cx="876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ncoming cal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alls may be divided into sub-calls, if a customer obtains more than on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gment sequences may be compli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Several segments in the V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These may be consecutive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Customer passed from agent to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Customer on hold, while agent confer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534520" y="63244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– Cal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838080"/>
            <a:ext cx="8763120" cy="44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Systems cap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6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Creating graphs and tables, in different resolutions (month, days, hours, minutes, seconds) for a variety of operational measures (predetermined). For example: Abandonment rate in 5 minutes intervals, Wait time distribution, No. of incoming c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6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Creating graphs and tables for new user-defined mea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6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Creating daily /monthly /yearly reports to allow a full operational view of the call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00800" y="4876920"/>
            <a:ext cx="1905120" cy="120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534520" y="63244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914400"/>
            <a:ext cx="87631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Graphs based on pre-determined operational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534520" y="63244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1523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ime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2057400"/>
          <a:ext cx="6934320" cy="40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057400"/>
                    <a:ext cx="69343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534520" y="63244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1447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ross Tab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5240" y="1981080"/>
          <a:ext cx="7553520" cy="416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240" y="1981080"/>
                    <a:ext cx="7553520" cy="41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914400"/>
            <a:ext cx="87631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Graphs based on pre-determined operational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0" y="624852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1896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638820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534520" y="6324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371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1828800"/>
          <a:ext cx="693396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828800"/>
                    <a:ext cx="6933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762120" y="914400"/>
            <a:ext cx="87627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Graphs based on pre-determined operational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 MOCCA - Interface</a:t>
            </a:r>
            <a:r>
              <a:rPr b="1" lang="he-I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4:40:28Z</dcterms:created>
  <dc:creator>Sivan Admor</dc:creator>
  <dc:description/>
  <dc:language>en-US</dc:language>
  <cp:lastModifiedBy>Mandelbaum</cp:lastModifiedBy>
  <dcterms:modified xsi:type="dcterms:W3CDTF">2005-12-30T10:54:36Z</dcterms:modified>
  <cp:revision>145</cp:revision>
  <dc:subject/>
  <dc:title>Slide 1</dc:title>
</cp:coreProperties>
</file>