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FA7-4800-42DF-85AD-93812966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020-BC67-44E1-926E-8FD7BEE3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892-7571-465E-A7D4-961F5E5F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6A0-F93C-471A-9524-53AE5221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90A-8192-422A-ADE6-5EAC1A64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C21-2B56-4C80-B021-754734E0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A8F-DACC-4F35-8F8B-421EE0D5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BE3-768A-4708-871D-BCA5B4E7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8FC-AF30-4E9A-8FA9-81B3E8F5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D9F-F659-40C3-B66D-F3C32E44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4F4-16C4-41CA-88C4-7BA14965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2AD-E2CF-4BBD-919F-6C57DE5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D2C726-69CB-4625-A5DA-DD4FB389115E}" type="datetime13">
              <a:rPr b="0" lang="en-US" sz="1400" spc="-1" strike="noStrike">
                <a:solidFill>
                  <a:srgbClr val="000000"/>
                </a:solidFill>
                <a:latin typeface="Arial"/>
              </a:rPr>
              <a:t>10:30:59 P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9200" y="6324120"/>
            <a:ext cx="380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C55D-D21C-4D54-94FF-2537E061A1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9.png"/><Relationship Id="rId21" Type="http://schemas.openxmlformats.org/officeDocument/2006/relationships/image" Target="../media/image8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9.png"/><Relationship Id="rId21" Type="http://schemas.openxmlformats.org/officeDocument/2006/relationships/image" Target="../media/image8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9.png"/><Relationship Id="rId21" Type="http://schemas.openxmlformats.org/officeDocument/2006/relationships/image" Target="../media/image8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981440" cy="179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952560" cy="838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175248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a2300"/>
                </a:solidFill>
                <a:latin typeface="Arial"/>
              </a:rPr>
              <a:t>DataMOC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505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a23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ba2300"/>
                </a:solidFill>
                <a:latin typeface="Arial"/>
              </a:rPr>
              <a:t>ata </a:t>
            </a:r>
            <a:r>
              <a:rPr b="1" lang="en-US" sz="2800" spc="-1" strike="noStrike" u="sng">
                <a:solidFill>
                  <a:srgbClr val="ba2300"/>
                </a:solidFill>
                <a:uFillTx/>
                <a:latin typeface="Arial"/>
              </a:rPr>
              <a:t>MO</a:t>
            </a:r>
            <a:r>
              <a:rPr b="0" lang="en-US" sz="2800" spc="-1" strike="noStrike">
                <a:solidFill>
                  <a:srgbClr val="ba2300"/>
                </a:solidFill>
                <a:latin typeface="Arial"/>
              </a:rPr>
              <a:t>dels for </a:t>
            </a:r>
            <a:r>
              <a:rPr b="1" lang="en-US" sz="2800" spc="-1" strike="noStrike" u="sng">
                <a:solidFill>
                  <a:srgbClr val="ba2300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ba2300"/>
                </a:solidFill>
                <a:latin typeface="Arial"/>
              </a:rPr>
              <a:t>all </a:t>
            </a:r>
            <a:r>
              <a:rPr b="1" lang="en-US" sz="2800" spc="-1" strike="noStrike" u="sng">
                <a:solidFill>
                  <a:srgbClr val="ba2300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ba2300"/>
                </a:solidFill>
                <a:latin typeface="Arial"/>
              </a:rPr>
              <a:t>enter </a:t>
            </a:r>
            <a:r>
              <a:rPr b="1" lang="en-US" sz="2800" spc="-1" strike="noStrike" u="sng">
                <a:solidFill>
                  <a:srgbClr val="ba23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ba2300"/>
                </a:solidFill>
                <a:latin typeface="Arial"/>
              </a:rPr>
              <a:t>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533520"/>
            <a:ext cx="2667240" cy="1218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4114800"/>
            <a:ext cx="876312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Project Collaborator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Technion:    Paul Feigin, Avi Mandelba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Valery Trofimov, Students &amp; RA’s, Technion Statistics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harton:      Larry Brown, Noah Gans, Haipeng Shen (N. Carolina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Students, Wharton Financial Institutions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Companies: U.S. Bank, Israeli Cellular Phone (both Aspect-Based)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914400"/>
            <a:ext cx="39621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 rtl="1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New </a:t>
            </a:r>
            <a:r>
              <a:rPr b="1" lang="en-US" sz="2000" spc="-1" strike="noStrike">
                <a:solidFill>
                  <a:srgbClr val="e42b00"/>
                </a:solidFill>
                <a:latin typeface="Arial"/>
                <a:ea typeface="Arial"/>
              </a:rPr>
              <a:t>User-Defined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6320" y="6464160"/>
            <a:ext cx="533160" cy="470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2438280" cy="1365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2210040" cy="1242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2362320" cy="1312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800600" y="2971800"/>
            <a:ext cx="2133720" cy="1406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0880" y="3321000"/>
            <a:ext cx="43434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ep 2: Process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rom the desired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181480" y="4495680"/>
            <a:ext cx="2057400" cy="1217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4800600" y="45720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7200" y="4981680"/>
            <a:ext cx="43434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ep 3: Creating desired grap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n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stomized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152388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676520"/>
            <a:ext cx="358128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ep 1:  Entering 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312408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64832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FBA-1561-4B24-B2BD-3A9C4588D1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62120" y="914400"/>
            <a:ext cx="87627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US Bank: </a:t>
            </a:r>
            <a:r>
              <a:rPr b="1" lang="en-US" sz="2000" spc="-1" strike="noStrike">
                <a:solidFill>
                  <a:srgbClr val="e42b00"/>
                </a:solidFill>
                <a:latin typeface="Arial"/>
                <a:ea typeface="Arial"/>
              </a:rPr>
              <a:t>Arrival Rat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on Tuesdays in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– Interesting Scenarios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701676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1D2-8294-49B1-B516-9030F37EDE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3880" y="914400"/>
            <a:ext cx="6096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Israeli Bank: Histogram of </a:t>
            </a:r>
            <a:r>
              <a:rPr b="1" lang="en-US" sz="2000" spc="-1" strike="noStrike">
                <a:solidFill>
                  <a:srgbClr val="e42b00"/>
                </a:solidFill>
                <a:latin typeface="Arial"/>
                <a:ea typeface="Arial"/>
              </a:rPr>
              <a:t>Wait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– Interesting Scenarios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246800" cy="44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C00-5050-407A-8ABC-19FB301E6E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09480" y="914400"/>
            <a:ext cx="82296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US Bank: </a:t>
            </a:r>
            <a:r>
              <a:rPr b="1" lang="en-US" sz="2000" spc="-1" strike="noStrike">
                <a:solidFill>
                  <a:srgbClr val="e42b00"/>
                </a:solidFill>
                <a:latin typeface="Arial"/>
                <a:ea typeface="Arial"/>
              </a:rPr>
              <a:t>Service Time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Histograms for Telesales, 200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– Interesting Scenarios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136520" y="1805040"/>
            <a:ext cx="6864480" cy="42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393-2C33-42B9-8DA3-0BF8E7925B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33520" y="838080"/>
            <a:ext cx="83055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Israeli Call Center: Technical Service – Scenario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– Interesting Scenarios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-152280" y="1752480"/>
            <a:ext cx="50292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2b00"/>
                </a:solidFill>
                <a:latin typeface="Arial"/>
                <a:ea typeface="Arial"/>
              </a:rPr>
              <a:t>Unhandled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Calls on May 24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th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19720" y="2697120"/>
            <a:ext cx="50292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2b00"/>
                </a:solidFill>
                <a:latin typeface="Arial"/>
                <a:ea typeface="Arial"/>
              </a:rPr>
              <a:t>Agents Statu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on May 24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th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ABC-8F8A-46BB-B66D-EF487D818C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05120" y="974880"/>
            <a:ext cx="65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ily Report of April 20, 2004 – </a:t>
            </a:r>
            <a:r>
              <a:rPr b="1" lang="en-US" sz="2000" spc="-1" strike="noStrike">
                <a:solidFill>
                  <a:srgbClr val="e42b00"/>
                </a:solidFill>
                <a:latin typeface="Arial"/>
              </a:rPr>
              <a:t>Heavily Loaded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0440" y="1317600"/>
            <a:ext cx="8953560" cy="4930560"/>
            <a:chOff x="190440" y="1317600"/>
            <a:chExt cx="8953560" cy="4930560"/>
          </a:xfrm>
        </p:grpSpPr>
        <p:sp>
          <p:nvSpPr>
            <p:cNvPr id="287" name=""/>
            <p:cNvSpPr/>
            <p:nvPr/>
          </p:nvSpPr>
          <p:spPr>
            <a:xfrm>
              <a:off x="8001000" y="2055600"/>
              <a:ext cx="1015920" cy="142920"/>
            </a:xfrm>
            <a:prstGeom prst="rightArrow">
              <a:avLst>
                <a:gd name="adj1" fmla="val 50000"/>
                <a:gd name="adj2" fmla="val 177708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01000" y="202068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69160" y="2035080"/>
              <a:ext cx="20318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2265120"/>
              <a:ext cx="1015920" cy="144720"/>
            </a:xfrm>
            <a:prstGeom prst="rightArrow">
              <a:avLst>
                <a:gd name="adj1" fmla="val 50000"/>
                <a:gd name="adj2" fmla="val 17549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3020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69160" y="2246040"/>
              <a:ext cx="20318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01000" y="2476440"/>
              <a:ext cx="1015920" cy="142920"/>
            </a:xfrm>
            <a:prstGeom prst="rightArrow">
              <a:avLst>
                <a:gd name="adj1" fmla="val 50000"/>
                <a:gd name="adj2" fmla="val 177708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01000" y="244152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69160" y="2457360"/>
              <a:ext cx="20318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normal 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4160" y="1595160"/>
              <a:ext cx="1079280" cy="123840"/>
            </a:xfrm>
            <a:prstGeom prst="rightArrow">
              <a:avLst>
                <a:gd name="adj1" fmla="val 50000"/>
                <a:gd name="adj2" fmla="val 21787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0440" y="140328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200000">
              <a:off x="1372320" y="1981440"/>
              <a:ext cx="824040" cy="165240"/>
            </a:xfrm>
            <a:prstGeom prst="leftArrow">
              <a:avLst>
                <a:gd name="adj1" fmla="val 50000"/>
                <a:gd name="adj2" fmla="val 124673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1309320" y="2077920"/>
              <a:ext cx="58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5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3060000">
              <a:off x="1593000" y="2527920"/>
              <a:ext cx="2306880" cy="38160"/>
            </a:xfrm>
            <a:prstGeom prst="rightArrow">
              <a:avLst>
                <a:gd name="adj1" fmla="val 50000"/>
                <a:gd name="adj2" fmla="val 1511321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3060000">
              <a:off x="1944360" y="2467080"/>
              <a:ext cx="206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3440" y="1317600"/>
              <a:ext cx="889200" cy="669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4160" y="2916000"/>
              <a:ext cx="1079280" cy="277920"/>
            </a:xfrm>
            <a:prstGeom prst="rightArrow">
              <a:avLst>
                <a:gd name="adj1" fmla="val 50000"/>
                <a:gd name="adj2" fmla="val 97085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0440" y="272556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6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1373040" y="3277800"/>
              <a:ext cx="822240" cy="368280"/>
            </a:xfrm>
            <a:prstGeom prst="leftArrow">
              <a:avLst>
                <a:gd name="adj1" fmla="val 50000"/>
                <a:gd name="adj2" fmla="val 55816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1312560" y="3369960"/>
              <a:ext cx="58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58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380000">
              <a:off x="1704960" y="3312720"/>
              <a:ext cx="1905120" cy="28440"/>
            </a:xfrm>
            <a:prstGeom prst="rightArrow">
              <a:avLst>
                <a:gd name="adj1" fmla="val 50000"/>
                <a:gd name="adj2" fmla="val 1674684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380000">
              <a:off x="2099880" y="3190320"/>
              <a:ext cx="158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33440" y="2716200"/>
              <a:ext cx="889200" cy="6696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nou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4160" y="4113000"/>
              <a:ext cx="1079280" cy="669960"/>
            </a:xfrm>
            <a:prstGeom prst="rightArrow">
              <a:avLst>
                <a:gd name="adj1" fmla="val 50000"/>
                <a:gd name="adj2" fmla="val 40274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0440" y="392256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78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1365840" y="4516920"/>
              <a:ext cx="823680" cy="685800"/>
            </a:xfrm>
            <a:prstGeom prst="leftArrow">
              <a:avLst>
                <a:gd name="adj1" fmla="val 50000"/>
                <a:gd name="adj2" fmla="val 30026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147320" y="4767120"/>
              <a:ext cx="58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38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280000">
              <a:off x="1711440" y="3970080"/>
              <a:ext cx="1892160" cy="430200"/>
            </a:xfrm>
            <a:prstGeom prst="rightArrow">
              <a:avLst>
                <a:gd name="adj1" fmla="val 50000"/>
                <a:gd name="adj2" fmla="val 109958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0280000">
              <a:off x="1946520" y="37332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39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33440" y="4113000"/>
              <a:ext cx="889200" cy="669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4160" y="5740200"/>
              <a:ext cx="1079280" cy="211320"/>
            </a:xfrm>
            <a:prstGeom prst="rightArrow">
              <a:avLst>
                <a:gd name="adj1" fmla="val 50000"/>
                <a:gd name="adj2" fmla="val 127683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0440" y="554976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9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8540000">
              <a:off x="1587960" y="4813560"/>
              <a:ext cx="2297160" cy="279360"/>
            </a:xfrm>
            <a:prstGeom prst="rightArrow">
              <a:avLst>
                <a:gd name="adj1" fmla="val 50000"/>
                <a:gd name="adj2" fmla="val 205573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8540000">
              <a:off x="1660680" y="4554360"/>
              <a:ext cx="205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9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33440" y="5511600"/>
              <a:ext cx="889200" cy="669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00680" y="3547800"/>
              <a:ext cx="1714320" cy="422280"/>
            </a:xfrm>
            <a:prstGeom prst="rightArrow">
              <a:avLst>
                <a:gd name="adj1" fmla="val 50000"/>
                <a:gd name="adj2" fmla="val 101492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44920" y="3357360"/>
              <a:ext cx="13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28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4380000">
              <a:off x="3385080" y="4681800"/>
              <a:ext cx="2011320" cy="76320"/>
            </a:xfrm>
            <a:prstGeom prst="rightArrow">
              <a:avLst>
                <a:gd name="adj1" fmla="val 50000"/>
                <a:gd name="adj2" fmla="val 658844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4380000">
              <a:off x="3735720" y="4720320"/>
              <a:ext cx="172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5400000">
              <a:off x="3042720" y="4690800"/>
              <a:ext cx="1914480" cy="50760"/>
            </a:xfrm>
            <a:prstGeom prst="rightArrow">
              <a:avLst>
                <a:gd name="adj1" fmla="val 50000"/>
                <a:gd name="adj2" fmla="val 942908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3312360" y="4753800"/>
              <a:ext cx="162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7220000">
              <a:off x="2604240" y="4580280"/>
              <a:ext cx="2011320" cy="279360"/>
            </a:xfrm>
            <a:prstGeom prst="leftArrow">
              <a:avLst>
                <a:gd name="adj1" fmla="val 50000"/>
                <a:gd name="adj2" fmla="val 179994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7220000">
              <a:off x="2444760" y="4696920"/>
              <a:ext cx="172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79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5354640" y="4373280"/>
              <a:ext cx="1724040" cy="495000"/>
            </a:xfrm>
            <a:prstGeom prst="leftArrow">
              <a:avLst>
                <a:gd name="adj1" fmla="val 50000"/>
                <a:gd name="adj2" fmla="val 87073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5150160" y="4658400"/>
              <a:ext cx="143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97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22960" y="3663720"/>
              <a:ext cx="1905120" cy="181080"/>
            </a:xfrm>
            <a:prstGeom prst="rightArrow">
              <a:avLst>
                <a:gd name="adj1" fmla="val 50000"/>
                <a:gd name="adj2" fmla="val 263022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67560" y="3471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1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080000">
              <a:off x="5695560" y="4679640"/>
              <a:ext cx="2095560" cy="101880"/>
            </a:xfrm>
            <a:prstGeom prst="rightArrow">
              <a:avLst>
                <a:gd name="adj1" fmla="val 50000"/>
                <a:gd name="adj2" fmla="val 514223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4080000">
              <a:off x="6073920" y="4712400"/>
              <a:ext cx="18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92360" y="3376440"/>
              <a:ext cx="1016280" cy="76536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f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15000" y="3376440"/>
              <a:ext cx="1015920" cy="7653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30600" y="5673600"/>
              <a:ext cx="76176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9440" y="5673600"/>
              <a:ext cx="76212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08640" y="5673600"/>
              <a:ext cx="76176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48440" y="5673600"/>
              <a:ext cx="76212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28080" y="3376440"/>
              <a:ext cx="1015920" cy="765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inu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– Interesting Scenarios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EFF-0561-49B4-B151-FFC2AEC3DD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-Based Research: Must (?) &amp; Fun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914400"/>
            <a:ext cx="9144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7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- Contrast with “EmpOM”: Industry / Company / Survey Data (Social Scie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- Converge to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easure, Model, Validate, Experiment, Refine (Physics, Biology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- Prerequisites: OR/OM, (Marketing) –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; Computer Scienc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Information Systems, Statistics –  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mplementatio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- Outcomes: Relevance, Credibility, Interest; Pilot (eg. Healthcare).  Moreo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eaching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: Class, Homework (Experimental Data Analysis);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Research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: Test (Queueing) Theory / Laws, Stimulate New Models / The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actice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: OM Tools (Scenario Analysis), Mktg (Trends, Benchmark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1B2-42F0-432D-B7A3-10F430DEED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oject 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90720"/>
            <a:ext cx="9144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Goal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  Designing and Implementing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(universal) data-base/data-repository an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for storing, retrieving, analyzing and displa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all-by-Call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-based data/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276720"/>
            <a:ext cx="87631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Enable the Study of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Service Providers /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Managers /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6388200"/>
            <a:ext cx="533520" cy="469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95680" y="3962520"/>
            <a:ext cx="4648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Wait Time, Abandonment, Re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257800"/>
            <a:ext cx="3962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Load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Queue Lengths,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572000"/>
            <a:ext cx="4648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Service Duration, Activit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81680" y="1371600"/>
            <a:ext cx="1905120" cy="176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667-E6C5-4552-82BF-2FFC57F763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oject 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838080"/>
            <a:ext cx="861084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System Components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lean databases: operational histori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dividual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calls, agents and sometimes customers (ID’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riendly powerful interface: online access to (mostly) operational and (some) administrative data (but no financial data, y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267080"/>
            <a:ext cx="8458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urrently Two Datab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S Bank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20/40M calls, 1000 agents, 2.5 years; 7-20GB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sraeli Cellular phone company (800 agents, 2.5 years, ongo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77120" y="1066680"/>
            <a:ext cx="2285640" cy="1371240"/>
            <a:chOff x="6477120" y="1066680"/>
            <a:chExt cx="2285640" cy="1371240"/>
          </a:xfrm>
        </p:grpSpPr>
        <p:graphicFrame>
          <p:nvGraphicFramePr>
            <p:cNvPr id="66" name=""/>
            <p:cNvGraphicFramePr/>
            <p:nvPr/>
          </p:nvGraphicFramePr>
          <p:xfrm>
            <a:off x="6477120" y="1066680"/>
            <a:ext cx="1758240" cy="1026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77120" y="1066680"/>
                      <a:ext cx="1758240" cy="102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6653160" y="1235160"/>
            <a:ext cx="1757880" cy="1012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53160" y="1235160"/>
                      <a:ext cx="175788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6916680" y="1404000"/>
            <a:ext cx="1846080" cy="10339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16680" y="1404000"/>
                      <a:ext cx="1846080" cy="10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76320" y="6464160"/>
            <a:ext cx="533160" cy="47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DBB-D1F3-45B5-A812-F99BE9FCE1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990720"/>
            <a:ext cx="883908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70000"/>
              </a:lnSpc>
              <a:spcBef>
                <a:spcPts val="1624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aily / monthly / yearly reports &amp; flow-chart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for a complete operational vie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spcBef>
                <a:spcPts val="1624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Graphs and tabl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, in customized resolutions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onth, days, hours, minutes, second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) for a variety of (pre-designed) operational measures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(arrival rates, abandonment counts, service- and wait-time distribution, utilization profiles,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spcBef>
                <a:spcPts val="1624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Graphs and tables for new user-defined meas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spcBef>
                <a:spcPts val="1624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Direct access to the raw (cleaned)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571-A438-4AFB-96E9-22364CA6D7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0" y="9144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ily Report of April 13,  2004 – Regula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3360" y="965160"/>
            <a:ext cx="8953560" cy="5156280"/>
            <a:chOff x="63360" y="965160"/>
            <a:chExt cx="8953560" cy="5156280"/>
          </a:xfrm>
        </p:grpSpPr>
        <p:sp>
          <p:nvSpPr>
            <p:cNvPr id="85" name=""/>
            <p:cNvSpPr/>
            <p:nvPr/>
          </p:nvSpPr>
          <p:spPr>
            <a:xfrm>
              <a:off x="7873920" y="1735200"/>
              <a:ext cx="1015920" cy="150840"/>
            </a:xfrm>
            <a:prstGeom prst="rightArrow">
              <a:avLst>
                <a:gd name="adj1" fmla="val 50000"/>
                <a:gd name="adj2" fmla="val 16837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73920" y="169848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42080" y="1716120"/>
              <a:ext cx="20318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73920" y="1955880"/>
              <a:ext cx="1015920" cy="150840"/>
            </a:xfrm>
            <a:prstGeom prst="rightArrow">
              <a:avLst>
                <a:gd name="adj1" fmla="val 50000"/>
                <a:gd name="adj2" fmla="val 16837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73920" y="191916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42080" y="1935000"/>
              <a:ext cx="2031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73920" y="2176560"/>
              <a:ext cx="1015920" cy="149040"/>
            </a:xfrm>
            <a:prstGeom prst="rightArrow">
              <a:avLst>
                <a:gd name="adj1" fmla="val 50000"/>
                <a:gd name="adj2" fmla="val 17041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73920" y="213984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42080" y="2155680"/>
              <a:ext cx="2031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normal 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7080" y="1235160"/>
              <a:ext cx="1079280" cy="149040"/>
            </a:xfrm>
            <a:prstGeom prst="rightArrow">
              <a:avLst>
                <a:gd name="adj1" fmla="val 50000"/>
                <a:gd name="adj2" fmla="val 181039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360" y="103500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1213560" y="1649880"/>
              <a:ext cx="862200" cy="190440"/>
            </a:xfrm>
            <a:prstGeom prst="leftArrow">
              <a:avLst>
                <a:gd name="adj1" fmla="val 50000"/>
                <a:gd name="adj2" fmla="val 11318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1144080" y="17668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3060000">
              <a:off x="1412640" y="2229840"/>
              <a:ext cx="2413080" cy="38160"/>
            </a:xfrm>
            <a:prstGeom prst="rightArrow">
              <a:avLst>
                <a:gd name="adj1" fmla="val 50000"/>
                <a:gd name="adj2" fmla="val 1580896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3060000">
              <a:off x="1769760" y="2173320"/>
              <a:ext cx="216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06360" y="965160"/>
              <a:ext cx="889200" cy="7002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7080" y="2576520"/>
              <a:ext cx="1079280" cy="411120"/>
            </a:xfrm>
            <a:prstGeom prst="rightArrow">
              <a:avLst>
                <a:gd name="adj1" fmla="val 50000"/>
                <a:gd name="adj2" fmla="val 6563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360" y="237636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96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1226520" y="2947320"/>
              <a:ext cx="861840" cy="520560"/>
            </a:xfrm>
            <a:prstGeom prst="leftArrow">
              <a:avLst>
                <a:gd name="adj1" fmla="val 50000"/>
                <a:gd name="adj2" fmla="val 4139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973440" y="3214080"/>
              <a:ext cx="63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95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380000">
              <a:off x="1577880" y="3050640"/>
              <a:ext cx="1905120" cy="30240"/>
            </a:xfrm>
            <a:prstGeom prst="rightArrow">
              <a:avLst>
                <a:gd name="adj1" fmla="val 50000"/>
                <a:gd name="adj2" fmla="val 157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380000">
              <a:off x="1974240" y="292392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6360" y="2425680"/>
              <a:ext cx="889200" cy="701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nou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7080" y="3887640"/>
              <a:ext cx="1079280" cy="702000"/>
            </a:xfrm>
            <a:prstGeom prst="rightArrow">
              <a:avLst>
                <a:gd name="adj1" fmla="val 50000"/>
                <a:gd name="adj2" fmla="val 38436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360" y="368784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46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1220040" y="4352040"/>
              <a:ext cx="861840" cy="635040"/>
            </a:xfrm>
            <a:prstGeom prst="leftArrow">
              <a:avLst>
                <a:gd name="adj1" fmla="val 50000"/>
                <a:gd name="adj2" fmla="val 33929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826560" y="4592880"/>
              <a:ext cx="8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54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280000">
              <a:off x="1584000" y="3717720"/>
              <a:ext cx="1892160" cy="490320"/>
            </a:xfrm>
            <a:prstGeom prst="rightArrow">
              <a:avLst>
                <a:gd name="adj1" fmla="val 50000"/>
                <a:gd name="adj2" fmla="val 96476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280000">
              <a:off x="1808640" y="3472920"/>
              <a:ext cx="15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1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06360" y="3887640"/>
              <a:ext cx="889200" cy="7020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7080" y="5580000"/>
              <a:ext cx="1079280" cy="250920"/>
            </a:xfrm>
            <a:prstGeom prst="rightArrow">
              <a:avLst>
                <a:gd name="adj1" fmla="val 50000"/>
                <a:gd name="adj2" fmla="val 107532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360" y="538020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3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8540000">
              <a:off x="1413720" y="4610520"/>
              <a:ext cx="2401920" cy="317520"/>
            </a:xfrm>
            <a:prstGeom prst="rightArrow">
              <a:avLst>
                <a:gd name="adj1" fmla="val 50000"/>
                <a:gd name="adj2" fmla="val 189116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540000">
              <a:off x="1477440" y="4350600"/>
              <a:ext cx="215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3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06360" y="5349960"/>
              <a:ext cx="889200" cy="701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73600" y="3257640"/>
              <a:ext cx="1714320" cy="530280"/>
            </a:xfrm>
            <a:prstGeom prst="rightArrow">
              <a:avLst>
                <a:gd name="adj1" fmla="val 50000"/>
                <a:gd name="adj2" fmla="val 80821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3057480"/>
              <a:ext cx="13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2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4380000">
              <a:off x="3212640" y="4484880"/>
              <a:ext cx="2102040" cy="75960"/>
            </a:xfrm>
            <a:prstGeom prst="rightArrow">
              <a:avLst>
                <a:gd name="adj1" fmla="val 50000"/>
                <a:gd name="adj2" fmla="val 691825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4380000">
              <a:off x="3568680" y="452988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2871360" y="4494240"/>
              <a:ext cx="2003400" cy="50760"/>
            </a:xfrm>
            <a:prstGeom prst="rightArrow">
              <a:avLst>
                <a:gd name="adj1" fmla="val 50000"/>
                <a:gd name="adj2" fmla="val 986702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3147840" y="456588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9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7220000">
              <a:off x="2431800" y="4420800"/>
              <a:ext cx="2102040" cy="203040"/>
            </a:xfrm>
            <a:prstGeom prst="leftArrow">
              <a:avLst>
                <a:gd name="adj1" fmla="val 50000"/>
                <a:gd name="adj2" fmla="val 258821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7220000">
              <a:off x="2314800" y="4514400"/>
              <a:ext cx="180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4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5188680" y="4119840"/>
              <a:ext cx="1801800" cy="596880"/>
            </a:xfrm>
            <a:prstGeom prst="leftArrow">
              <a:avLst>
                <a:gd name="adj1" fmla="val 50000"/>
                <a:gd name="adj2" fmla="val 75467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4939560" y="446580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7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3397320"/>
              <a:ext cx="1905120" cy="230040"/>
            </a:xfrm>
            <a:prstGeom prst="rightArrow">
              <a:avLst>
                <a:gd name="adj1" fmla="val 50000"/>
                <a:gd name="adj2" fmla="val 207042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40480" y="319716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1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4080000">
              <a:off x="5513400" y="4479480"/>
              <a:ext cx="2193840" cy="114480"/>
            </a:xfrm>
            <a:prstGeom prst="rightArrow">
              <a:avLst>
                <a:gd name="adj1" fmla="val 50000"/>
                <a:gd name="adj2" fmla="val 479088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4080000">
              <a:off x="5905440" y="4521960"/>
              <a:ext cx="189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65640" y="3117960"/>
              <a:ext cx="1015920" cy="79992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f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7920" y="3117960"/>
              <a:ext cx="1015920" cy="7999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03520" y="5521320"/>
              <a:ext cx="76212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92360" y="5521320"/>
              <a:ext cx="76212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5521320"/>
              <a:ext cx="76176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21360" y="5521320"/>
              <a:ext cx="184176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1000" y="3117960"/>
              <a:ext cx="1015920" cy="7999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inu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E96-D931-48CC-B6FC-E0F1BB805E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0" y="9748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ily Report of April 27, 2004 -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3360" y="1116000"/>
            <a:ext cx="8953560" cy="5132520"/>
            <a:chOff x="63360" y="1116000"/>
            <a:chExt cx="8953560" cy="5132520"/>
          </a:xfrm>
        </p:grpSpPr>
        <p:sp>
          <p:nvSpPr>
            <p:cNvPr id="148" name=""/>
            <p:cNvSpPr/>
            <p:nvPr/>
          </p:nvSpPr>
          <p:spPr>
            <a:xfrm>
              <a:off x="63360" y="122580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360" y="248148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6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360" y="382752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68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360" y="551196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94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73920" y="1884600"/>
              <a:ext cx="1015920" cy="149040"/>
            </a:xfrm>
            <a:prstGeom prst="rightArrow">
              <a:avLst>
                <a:gd name="adj1" fmla="val 50000"/>
                <a:gd name="adj2" fmla="val 17041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73920" y="184788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42080" y="1863720"/>
              <a:ext cx="2031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73920" y="2103480"/>
              <a:ext cx="1015920" cy="149400"/>
            </a:xfrm>
            <a:prstGeom prst="rightArrow">
              <a:avLst>
                <a:gd name="adj1" fmla="val 50000"/>
                <a:gd name="adj2" fmla="val 17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73920" y="206712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42080" y="2082960"/>
              <a:ext cx="20318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73920" y="2322720"/>
              <a:ext cx="1015920" cy="149040"/>
            </a:xfrm>
            <a:prstGeom prst="rightArrow">
              <a:avLst>
                <a:gd name="adj1" fmla="val 50000"/>
                <a:gd name="adj2" fmla="val 17041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73920" y="228780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42080" y="2301840"/>
              <a:ext cx="2031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normal 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7080" y="1425600"/>
              <a:ext cx="1079280" cy="88920"/>
            </a:xfrm>
            <a:prstGeom prst="rightArrow">
              <a:avLst>
                <a:gd name="adj1" fmla="val 50000"/>
                <a:gd name="adj2" fmla="val 303441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1228680" y="1836360"/>
              <a:ext cx="857160" cy="114480"/>
            </a:xfrm>
            <a:prstGeom prst="leftArrow">
              <a:avLst>
                <a:gd name="adj1" fmla="val 50000"/>
                <a:gd name="adj2" fmla="val 187186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195560" y="1914120"/>
              <a:ext cx="60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3060000">
              <a:off x="1418400" y="2377080"/>
              <a:ext cx="2401920" cy="38160"/>
            </a:xfrm>
            <a:prstGeom prst="rightArrow">
              <a:avLst>
                <a:gd name="adj1" fmla="val 50000"/>
                <a:gd name="adj2" fmla="val 1573585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3060000">
              <a:off x="1775160" y="2318760"/>
              <a:ext cx="21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06360" y="1116000"/>
              <a:ext cx="889200" cy="698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7080" y="2681280"/>
              <a:ext cx="1079280" cy="487440"/>
            </a:xfrm>
            <a:prstGeom prst="rightArrow">
              <a:avLst>
                <a:gd name="adj1" fmla="val 50000"/>
                <a:gd name="adj2" fmla="val 55355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229400" y="3037320"/>
              <a:ext cx="855720" cy="622440"/>
            </a:xfrm>
            <a:prstGeom prst="leftArrow">
              <a:avLst>
                <a:gd name="adj1" fmla="val 50000"/>
                <a:gd name="adj2" fmla="val 3437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046520" y="3261600"/>
              <a:ext cx="6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64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380000">
              <a:off x="1577880" y="3192120"/>
              <a:ext cx="1905120" cy="30240"/>
            </a:xfrm>
            <a:prstGeom prst="rightArrow">
              <a:avLst>
                <a:gd name="adj1" fmla="val 50000"/>
                <a:gd name="adj2" fmla="val 157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380000">
              <a:off x="1977480" y="306828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06360" y="2571840"/>
              <a:ext cx="889200" cy="696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nou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7080" y="4025880"/>
              <a:ext cx="1079280" cy="698760"/>
            </a:xfrm>
            <a:prstGeom prst="rightArrow">
              <a:avLst>
                <a:gd name="adj1" fmla="val 50000"/>
                <a:gd name="adj2" fmla="val 38614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1228680" y="4466880"/>
              <a:ext cx="857160" cy="673200"/>
            </a:xfrm>
            <a:prstGeom prst="leftArrow">
              <a:avLst>
                <a:gd name="adj1" fmla="val 50000"/>
                <a:gd name="adj2" fmla="val 31832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1021320" y="4715640"/>
              <a:ext cx="6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8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280000">
              <a:off x="1582200" y="3868920"/>
              <a:ext cx="1892520" cy="457200"/>
            </a:xfrm>
            <a:prstGeom prst="rightArrow">
              <a:avLst>
                <a:gd name="adj1" fmla="val 50000"/>
                <a:gd name="adj2" fmla="val 103484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280000">
              <a:off x="1813320" y="3622320"/>
              <a:ext cx="15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9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6360" y="4025880"/>
              <a:ext cx="889200" cy="698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7080" y="5710320"/>
              <a:ext cx="1079280" cy="228600"/>
            </a:xfrm>
            <a:prstGeom prst="rightArrow">
              <a:avLst>
                <a:gd name="adj1" fmla="val 50000"/>
                <a:gd name="adj2" fmla="val 118031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540000">
              <a:off x="1408680" y="4750920"/>
              <a:ext cx="2392560" cy="291960"/>
            </a:xfrm>
            <a:prstGeom prst="rightArrow">
              <a:avLst>
                <a:gd name="adj1" fmla="val 50000"/>
                <a:gd name="adj2" fmla="val 204871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8540000">
              <a:off x="1482840" y="4486320"/>
              <a:ext cx="214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94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06360" y="5481720"/>
              <a:ext cx="889200" cy="696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73600" y="3417840"/>
              <a:ext cx="1714320" cy="479520"/>
            </a:xfrm>
            <a:prstGeom prst="rightArrow">
              <a:avLst>
                <a:gd name="adj1" fmla="val 50000"/>
                <a:gd name="adj2" fmla="val 89377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17840" y="3219480"/>
              <a:ext cx="13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15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4380000">
              <a:off x="3222000" y="4611600"/>
              <a:ext cx="2092320" cy="88920"/>
            </a:xfrm>
            <a:prstGeom prst="rightArrow">
              <a:avLst>
                <a:gd name="adj1" fmla="val 50000"/>
                <a:gd name="adj2" fmla="val 588259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4380000">
              <a:off x="3584880" y="4659840"/>
              <a:ext cx="17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2883240" y="4634640"/>
              <a:ext cx="1992600" cy="38160"/>
            </a:xfrm>
            <a:prstGeom prst="rightArrow">
              <a:avLst>
                <a:gd name="adj1" fmla="val 50000"/>
                <a:gd name="adj2" fmla="val 1305425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3151800" y="4700160"/>
              <a:ext cx="169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7220000">
              <a:off x="2431800" y="4560840"/>
              <a:ext cx="2092320" cy="190440"/>
            </a:xfrm>
            <a:prstGeom prst="leftArrow">
              <a:avLst>
                <a:gd name="adj1" fmla="val 50000"/>
                <a:gd name="adj2" fmla="val 274669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7220000">
              <a:off x="2318400" y="4648320"/>
              <a:ext cx="17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5198760" y="4274640"/>
              <a:ext cx="1793880" cy="558720"/>
            </a:xfrm>
            <a:prstGeom prst="leftArrow">
              <a:avLst>
                <a:gd name="adj1" fmla="val 50000"/>
                <a:gd name="adj2" fmla="val 80267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4969080" y="4600080"/>
              <a:ext cx="149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58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95880" y="3578400"/>
              <a:ext cx="1905120" cy="168120"/>
            </a:xfrm>
            <a:prstGeom prst="rightArrow">
              <a:avLst>
                <a:gd name="adj1" fmla="val 50000"/>
                <a:gd name="adj2" fmla="val 283298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40480" y="33782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4080000">
              <a:off x="5518800" y="4613760"/>
              <a:ext cx="2183040" cy="114480"/>
            </a:xfrm>
            <a:prstGeom prst="rightArrow">
              <a:avLst>
                <a:gd name="adj1" fmla="val 50000"/>
                <a:gd name="adj2" fmla="val 476730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4080000">
              <a:off x="5910480" y="4656960"/>
              <a:ext cx="188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65640" y="3259080"/>
              <a:ext cx="1015920" cy="79704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f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87920" y="3259080"/>
              <a:ext cx="1015920" cy="79704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03520" y="565020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92360" y="565020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81560" y="565020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21360" y="565020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01000" y="3259080"/>
              <a:ext cx="1015920" cy="7970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inu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C39-254D-476F-9D85-545398EF18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914400"/>
            <a:ext cx="87631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Pre-designed Operational Measures: %Abandonment, T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819520" y="1523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ime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43000" y="2057400"/>
          <a:ext cx="6934320" cy="40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057400"/>
                    <a:ext cx="69343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3A9-B00B-4C8F-88F7-1159DECF00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819520" y="1447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aily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95240" y="1981080"/>
          <a:ext cx="7553520" cy="416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240" y="1981080"/>
                    <a:ext cx="7553520" cy="41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838080"/>
            <a:ext cx="87631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Pre-designed Operational Measures: Arrival Rates, 2/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1E3-B268-4B67-B63F-67CC2565DF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895480" y="1371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47920" y="1828800"/>
          <a:ext cx="693396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828800"/>
                    <a:ext cx="6933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1066680" y="914400"/>
            <a:ext cx="87631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Pre-designed Operational Measures: Servic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F2F-B2DA-41F2-B313-9F308B6436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5:47:48Z</dcterms:created>
  <dc:creator>Sivan Admor</dc:creator>
  <dc:description/>
  <dc:language>en-US</dc:language>
  <cp:lastModifiedBy>Avishai Mandelbaum</cp:lastModifiedBy>
  <dcterms:modified xsi:type="dcterms:W3CDTF">2006-10-11T01:03:11Z</dcterms:modified>
  <cp:revision>16</cp:revision>
  <dc:subject/>
  <dc:title>Slide 1</dc:title>
</cp:coreProperties>
</file>