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wmf" ContentType="image/x-wmf"/>
  <Override PartName="/ppt/media/image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A69-1053-4522-AB19-1B8B9ACE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DDE-E0F2-493A-9F9D-1AFF73DE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AC1-5C36-4206-AE55-57643A3A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EF3-FFB4-4B64-9ACD-37885B6C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80A-0F17-4AEA-976B-86CDF111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8D0-8D0D-45FB-B5FE-B8AB6053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7A2-BE59-4E69-9218-92950468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5B9-23E6-4220-A12A-781CEDF3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C34-F697-4825-B47B-4BE13B1A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846-D19F-45EE-8820-F3E5309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69E-BF91-433D-9931-F90588D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1A7-956F-4884-820E-8554FEEE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DE1503-0B6C-45C1-A2EA-52A745C8B4F8}" type="datetime13">
              <a:rPr b="0" lang="he-IL" sz="1400" spc="-1" strike="noStrike">
                <a:solidFill>
                  <a:srgbClr val="000000"/>
                </a:solidFill>
                <a:latin typeface="Arial"/>
              </a:rPr>
              <a:t>10:30:43 P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820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6FD5-A623-49DC-BEC8-1C6B346FFFBA}" type="slidenum">
              <a:rPr b="0" lang="he-IL" sz="14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3.png"/><Relationship Id="rId22" Type="http://schemas.openxmlformats.org/officeDocument/2006/relationships/image" Target="../media/image12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3.png"/><Relationship Id="rId22" Type="http://schemas.openxmlformats.org/officeDocument/2006/relationships/image" Target="../media/image12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3.png"/><Relationship Id="rId22" Type="http://schemas.openxmlformats.org/officeDocument/2006/relationships/image" Target="../media/image12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5.wmf"/><Relationship Id="rId8" Type="http://schemas.openxmlformats.org/officeDocument/2006/relationships/package" Target="../embeddings/oleObject2.xlsx"/><Relationship Id="rId9" Type="http://schemas.openxmlformats.org/officeDocument/2006/relationships/image" Target="../media/image6.wmf"/><Relationship Id="rId10" Type="http://schemas.openxmlformats.org/officeDocument/2006/relationships/package" Target="../embeddings/oleObject3.xlsx"/><Relationship Id="rId11" Type="http://schemas.openxmlformats.org/officeDocument/2006/relationships/image" Target="../media/image7.wmf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981440" cy="179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952560" cy="838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52480" y="213372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a2300"/>
                </a:solidFill>
                <a:latin typeface="Arial"/>
              </a:rPr>
              <a:t>Data MOC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962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23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ba2300"/>
                </a:solidFill>
                <a:latin typeface="Arial"/>
              </a:rPr>
              <a:t>ata </a:t>
            </a:r>
            <a:r>
              <a:rPr b="1" lang="en-US" sz="2400" spc="-1" strike="noStrike">
                <a:solidFill>
                  <a:srgbClr val="ba2300"/>
                </a:solidFill>
                <a:latin typeface="Arial"/>
              </a:rPr>
              <a:t>MO</a:t>
            </a:r>
            <a:r>
              <a:rPr b="0" lang="en-US" sz="2400" spc="-1" strike="noStrike">
                <a:solidFill>
                  <a:srgbClr val="ba2300"/>
                </a:solidFill>
                <a:latin typeface="Arial"/>
              </a:rPr>
              <a:t>del for </a:t>
            </a:r>
            <a:r>
              <a:rPr b="1" lang="en-US" sz="2400" spc="-1" strike="noStrike">
                <a:solidFill>
                  <a:srgbClr val="ba23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ba2300"/>
                </a:solidFill>
                <a:latin typeface="Arial"/>
              </a:rPr>
              <a:t>all </a:t>
            </a:r>
            <a:r>
              <a:rPr b="1" lang="en-US" sz="2400" spc="-1" strike="noStrike">
                <a:solidFill>
                  <a:srgbClr val="ba23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ba2300"/>
                </a:solidFill>
                <a:latin typeface="Arial"/>
              </a:rPr>
              <a:t>enter </a:t>
            </a:r>
            <a:r>
              <a:rPr b="1" lang="en-US" sz="2400" spc="-1" strike="noStrike">
                <a:solidFill>
                  <a:srgbClr val="ba2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ba2300"/>
                </a:solidFill>
                <a:latin typeface="Arial"/>
              </a:rPr>
              <a:t>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572000"/>
            <a:ext cx="87631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משתתפי הפרויקט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מהטכניון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: פרופ' אבישי מנדלבאום, פרופ' פאול פי</a:t>
            </a:r>
            <a:r>
              <a:rPr b="0" lang="he-IL" sz="1800" spc="-1" strike="noStrike">
                <a:solidFill>
                  <a:srgbClr val="0066ff"/>
                </a:solidFill>
                <a:latin typeface="Arial"/>
              </a:rPr>
              <a:t>י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גין, ואלרי טרופימוב ,צוות המעבדה לסטטיסטיקה (אווה ישי, אלה נדג'רוב,  ...) וסטודנטים (סיון אלדור, מיכאל רייך,.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מאוניברסיטת וורטון (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harton University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: פרופ' לארי בראון,... המרכז הפיננסי בוורט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חברות שותפות :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66ff"/>
                </a:solidFill>
                <a:latin typeface="Arial"/>
              </a:rPr>
              <a:t>חברה סלולארית ישראלית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, בנק בארה"ב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533520"/>
            <a:ext cx="26672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ממש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April  2004 – Regula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3360" y="965160"/>
            <a:ext cx="8953560" cy="5156280"/>
            <a:chOff x="63360" y="965160"/>
            <a:chExt cx="8953560" cy="5156280"/>
          </a:xfrm>
        </p:grpSpPr>
        <p:sp>
          <p:nvSpPr>
            <p:cNvPr id="149" name=""/>
            <p:cNvSpPr/>
            <p:nvPr/>
          </p:nvSpPr>
          <p:spPr>
            <a:xfrm>
              <a:off x="7873920" y="1735200"/>
              <a:ext cx="1015920" cy="150840"/>
            </a:xfrm>
            <a:prstGeom prst="rightArrow">
              <a:avLst>
                <a:gd name="adj1" fmla="val 50000"/>
                <a:gd name="adj2" fmla="val 16837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73920" y="169848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42080" y="1716120"/>
              <a:ext cx="20318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73920" y="1955880"/>
              <a:ext cx="1015920" cy="150840"/>
            </a:xfrm>
            <a:prstGeom prst="rightArrow">
              <a:avLst>
                <a:gd name="adj1" fmla="val 50000"/>
                <a:gd name="adj2" fmla="val 16837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73920" y="191916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42080" y="1935000"/>
              <a:ext cx="2031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73920" y="2176560"/>
              <a:ext cx="1015920" cy="149040"/>
            </a:xfrm>
            <a:prstGeom prst="rightArrow">
              <a:avLst>
                <a:gd name="adj1" fmla="val 50000"/>
                <a:gd name="adj2" fmla="val 170411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73920" y="213984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42080" y="2155680"/>
              <a:ext cx="2031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normal 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7080" y="1235160"/>
              <a:ext cx="1079280" cy="149040"/>
            </a:xfrm>
            <a:prstGeom prst="rightArrow">
              <a:avLst>
                <a:gd name="adj1" fmla="val 50000"/>
                <a:gd name="adj2" fmla="val 18103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60" y="103500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1213560" y="1649880"/>
              <a:ext cx="862200" cy="190440"/>
            </a:xfrm>
            <a:prstGeom prst="leftArrow">
              <a:avLst>
                <a:gd name="adj1" fmla="val 50000"/>
                <a:gd name="adj2" fmla="val 113185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1144080" y="17668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060000">
              <a:off x="1412640" y="2229840"/>
              <a:ext cx="2413080" cy="38160"/>
            </a:xfrm>
            <a:prstGeom prst="rightArrow">
              <a:avLst>
                <a:gd name="adj1" fmla="val 50000"/>
                <a:gd name="adj2" fmla="val 1580896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060000">
              <a:off x="1769760" y="2173320"/>
              <a:ext cx="216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06360" y="965160"/>
              <a:ext cx="889200" cy="7002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7080" y="2576520"/>
              <a:ext cx="1079280" cy="411120"/>
            </a:xfrm>
            <a:prstGeom prst="rightArrow">
              <a:avLst>
                <a:gd name="adj1" fmla="val 50000"/>
                <a:gd name="adj2" fmla="val 6563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360" y="237636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96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1226520" y="2947320"/>
              <a:ext cx="861840" cy="520560"/>
            </a:xfrm>
            <a:prstGeom prst="leftArrow">
              <a:avLst>
                <a:gd name="adj1" fmla="val 50000"/>
                <a:gd name="adj2" fmla="val 4139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973440" y="3214080"/>
              <a:ext cx="63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95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380000">
              <a:off x="1577880" y="3050640"/>
              <a:ext cx="1905120" cy="30240"/>
            </a:xfrm>
            <a:prstGeom prst="rightArrow">
              <a:avLst>
                <a:gd name="adj1" fmla="val 50000"/>
                <a:gd name="adj2" fmla="val 1575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380000">
              <a:off x="1974240" y="292392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06360" y="2425680"/>
              <a:ext cx="889200" cy="701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nou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7080" y="3887640"/>
              <a:ext cx="1079280" cy="702000"/>
            </a:xfrm>
            <a:prstGeom prst="rightArrow">
              <a:avLst>
                <a:gd name="adj1" fmla="val 50000"/>
                <a:gd name="adj2" fmla="val 38436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360" y="368784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46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1220040" y="4352040"/>
              <a:ext cx="861840" cy="635040"/>
            </a:xfrm>
            <a:prstGeom prst="leftArrow">
              <a:avLst>
                <a:gd name="adj1" fmla="val 50000"/>
                <a:gd name="adj2" fmla="val 33929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826560" y="4592880"/>
              <a:ext cx="8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54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280000">
              <a:off x="1584000" y="3717720"/>
              <a:ext cx="1892160" cy="490320"/>
            </a:xfrm>
            <a:prstGeom prst="rightArrow">
              <a:avLst>
                <a:gd name="adj1" fmla="val 50000"/>
                <a:gd name="adj2" fmla="val 96476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280000">
              <a:off x="1808640" y="3472920"/>
              <a:ext cx="15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1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6360" y="3887640"/>
              <a:ext cx="889200" cy="7020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7080" y="5580000"/>
              <a:ext cx="1079280" cy="250920"/>
            </a:xfrm>
            <a:prstGeom prst="rightArrow">
              <a:avLst>
                <a:gd name="adj1" fmla="val 50000"/>
                <a:gd name="adj2" fmla="val 107532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360" y="538020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3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8540000">
              <a:off x="1413720" y="4610520"/>
              <a:ext cx="2401920" cy="317520"/>
            </a:xfrm>
            <a:prstGeom prst="rightArrow">
              <a:avLst>
                <a:gd name="adj1" fmla="val 50000"/>
                <a:gd name="adj2" fmla="val 189116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8540000">
              <a:off x="1477440" y="4350600"/>
              <a:ext cx="215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3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06360" y="5349960"/>
              <a:ext cx="889200" cy="701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3600" y="3257640"/>
              <a:ext cx="1714320" cy="530280"/>
            </a:xfrm>
            <a:prstGeom prst="rightArrow">
              <a:avLst>
                <a:gd name="adj1" fmla="val 50000"/>
                <a:gd name="adj2" fmla="val 80821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3057480"/>
              <a:ext cx="13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2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4380000">
              <a:off x="3212640" y="4484880"/>
              <a:ext cx="2102040" cy="75960"/>
            </a:xfrm>
            <a:prstGeom prst="rightArrow">
              <a:avLst>
                <a:gd name="adj1" fmla="val 50000"/>
                <a:gd name="adj2" fmla="val 691825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4380000">
              <a:off x="3568680" y="452988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2871360" y="4494240"/>
              <a:ext cx="2003400" cy="50760"/>
            </a:xfrm>
            <a:prstGeom prst="rightArrow">
              <a:avLst>
                <a:gd name="adj1" fmla="val 50000"/>
                <a:gd name="adj2" fmla="val 986702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3147840" y="456588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9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7220000">
              <a:off x="2431800" y="4420800"/>
              <a:ext cx="2102040" cy="203040"/>
            </a:xfrm>
            <a:prstGeom prst="leftArrow">
              <a:avLst>
                <a:gd name="adj1" fmla="val 50000"/>
                <a:gd name="adj2" fmla="val 258821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7220000">
              <a:off x="2314800" y="4514400"/>
              <a:ext cx="180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4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5188680" y="4119840"/>
              <a:ext cx="1801800" cy="596880"/>
            </a:xfrm>
            <a:prstGeom prst="leftArrow">
              <a:avLst>
                <a:gd name="adj1" fmla="val 50000"/>
                <a:gd name="adj2" fmla="val 75467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939560" y="446580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7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3397320"/>
              <a:ext cx="1905120" cy="230040"/>
            </a:xfrm>
            <a:prstGeom prst="rightArrow">
              <a:avLst>
                <a:gd name="adj1" fmla="val 50000"/>
                <a:gd name="adj2" fmla="val 207042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40480" y="319716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1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4080000">
              <a:off x="5513400" y="4479480"/>
              <a:ext cx="2193840" cy="114480"/>
            </a:xfrm>
            <a:prstGeom prst="rightArrow">
              <a:avLst>
                <a:gd name="adj1" fmla="val 50000"/>
                <a:gd name="adj2" fmla="val 479088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4080000">
              <a:off x="5905440" y="4521960"/>
              <a:ext cx="189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65640" y="3117960"/>
              <a:ext cx="1015920" cy="79992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f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87920" y="3117960"/>
              <a:ext cx="1015920" cy="7999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03520" y="5521320"/>
              <a:ext cx="76212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92360" y="5521320"/>
              <a:ext cx="76212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5521320"/>
              <a:ext cx="76176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1360" y="5521320"/>
              <a:ext cx="184176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01000" y="3117960"/>
              <a:ext cx="1015920" cy="7999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inu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AC1-4DB6-4838-897F-537DE8E4BF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ממש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360" y="1149480"/>
            <a:ext cx="12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360" y="2405160"/>
            <a:ext cx="12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6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360" y="3751200"/>
            <a:ext cx="12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8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360" y="5435640"/>
            <a:ext cx="12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7080" y="990720"/>
            <a:ext cx="8889840" cy="5181480"/>
            <a:chOff x="127080" y="990720"/>
            <a:chExt cx="8889840" cy="5181480"/>
          </a:xfrm>
        </p:grpSpPr>
        <p:sp>
          <p:nvSpPr>
            <p:cNvPr id="216" name=""/>
            <p:cNvSpPr/>
            <p:nvPr/>
          </p:nvSpPr>
          <p:spPr>
            <a:xfrm>
              <a:off x="2286000" y="99072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 April  2004 - Holi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73920" y="1808280"/>
              <a:ext cx="1015920" cy="149040"/>
            </a:xfrm>
            <a:prstGeom prst="rightArrow">
              <a:avLst>
                <a:gd name="adj1" fmla="val 50000"/>
                <a:gd name="adj2" fmla="val 17041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73920" y="177156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42080" y="1787400"/>
              <a:ext cx="2031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73920" y="2027160"/>
              <a:ext cx="1015920" cy="149400"/>
            </a:xfrm>
            <a:prstGeom prst="rightArrow">
              <a:avLst>
                <a:gd name="adj1" fmla="val 50000"/>
                <a:gd name="adj2" fmla="val 17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73920" y="199080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42080" y="2006640"/>
              <a:ext cx="20318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920" y="2246400"/>
              <a:ext cx="1015920" cy="149040"/>
            </a:xfrm>
            <a:prstGeom prst="rightArrow">
              <a:avLst>
                <a:gd name="adj1" fmla="val 50000"/>
                <a:gd name="adj2" fmla="val 170411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73920" y="221148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42080" y="2225520"/>
              <a:ext cx="2031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normal 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7080" y="1349280"/>
              <a:ext cx="1079280" cy="88920"/>
            </a:xfrm>
            <a:prstGeom prst="rightArrow">
              <a:avLst>
                <a:gd name="adj1" fmla="val 50000"/>
                <a:gd name="adj2" fmla="val 30344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1228680" y="1760040"/>
              <a:ext cx="857160" cy="114480"/>
            </a:xfrm>
            <a:prstGeom prst="leftArrow">
              <a:avLst>
                <a:gd name="adj1" fmla="val 50000"/>
                <a:gd name="adj2" fmla="val 187186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1195560" y="1837800"/>
              <a:ext cx="60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3060000">
              <a:off x="1418400" y="2300760"/>
              <a:ext cx="2401920" cy="38160"/>
            </a:xfrm>
            <a:prstGeom prst="rightArrow">
              <a:avLst>
                <a:gd name="adj1" fmla="val 50000"/>
                <a:gd name="adj2" fmla="val 1573585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3060000">
              <a:off x="1775160" y="2242440"/>
              <a:ext cx="21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6360" y="1039680"/>
              <a:ext cx="889200" cy="698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7080" y="2604960"/>
              <a:ext cx="1079280" cy="487440"/>
            </a:xfrm>
            <a:prstGeom prst="rightArrow">
              <a:avLst>
                <a:gd name="adj1" fmla="val 50000"/>
                <a:gd name="adj2" fmla="val 55355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1229400" y="2961000"/>
              <a:ext cx="855720" cy="622440"/>
            </a:xfrm>
            <a:prstGeom prst="leftArrow">
              <a:avLst>
                <a:gd name="adj1" fmla="val 50000"/>
                <a:gd name="adj2" fmla="val 3437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200000">
              <a:off x="1046520" y="3185280"/>
              <a:ext cx="6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64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380000">
              <a:off x="1577880" y="3115800"/>
              <a:ext cx="1905120" cy="30240"/>
            </a:xfrm>
            <a:prstGeom prst="rightArrow">
              <a:avLst>
                <a:gd name="adj1" fmla="val 50000"/>
                <a:gd name="adj2" fmla="val 1575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380000">
              <a:off x="1977480" y="299196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06360" y="2495520"/>
              <a:ext cx="889200" cy="696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nou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7080" y="3949560"/>
              <a:ext cx="1079280" cy="698760"/>
            </a:xfrm>
            <a:prstGeom prst="rightArrow">
              <a:avLst>
                <a:gd name="adj1" fmla="val 50000"/>
                <a:gd name="adj2" fmla="val 38614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1228680" y="4390560"/>
              <a:ext cx="857160" cy="673200"/>
            </a:xfrm>
            <a:prstGeom prst="leftArrow">
              <a:avLst>
                <a:gd name="adj1" fmla="val 50000"/>
                <a:gd name="adj2" fmla="val 31832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1021320" y="4639320"/>
              <a:ext cx="6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8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80000">
              <a:off x="1582200" y="3792600"/>
              <a:ext cx="1892520" cy="457200"/>
            </a:xfrm>
            <a:prstGeom prst="rightArrow">
              <a:avLst>
                <a:gd name="adj1" fmla="val 50000"/>
                <a:gd name="adj2" fmla="val 103484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0280000">
              <a:off x="1813320" y="3546000"/>
              <a:ext cx="15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9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06360" y="3949560"/>
              <a:ext cx="889200" cy="698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7080" y="5634000"/>
              <a:ext cx="1079280" cy="228600"/>
            </a:xfrm>
            <a:prstGeom prst="rightArrow">
              <a:avLst>
                <a:gd name="adj1" fmla="val 50000"/>
                <a:gd name="adj2" fmla="val 118031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540000">
              <a:off x="1408680" y="4674600"/>
              <a:ext cx="2392560" cy="291960"/>
            </a:xfrm>
            <a:prstGeom prst="rightArrow">
              <a:avLst>
                <a:gd name="adj1" fmla="val 50000"/>
                <a:gd name="adj2" fmla="val 204871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540000">
              <a:off x="1482840" y="4410000"/>
              <a:ext cx="214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94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06360" y="5405400"/>
              <a:ext cx="889200" cy="696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73600" y="3341520"/>
              <a:ext cx="1714320" cy="479520"/>
            </a:xfrm>
            <a:prstGeom prst="rightArrow">
              <a:avLst>
                <a:gd name="adj1" fmla="val 50000"/>
                <a:gd name="adj2" fmla="val 89377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17840" y="3143160"/>
              <a:ext cx="13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15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4380000">
              <a:off x="3222000" y="4535280"/>
              <a:ext cx="2092320" cy="88920"/>
            </a:xfrm>
            <a:prstGeom prst="rightArrow">
              <a:avLst>
                <a:gd name="adj1" fmla="val 50000"/>
                <a:gd name="adj2" fmla="val 588259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4380000">
              <a:off x="3584880" y="4583520"/>
              <a:ext cx="17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2883240" y="4558320"/>
              <a:ext cx="1992600" cy="38160"/>
            </a:xfrm>
            <a:prstGeom prst="rightArrow">
              <a:avLst>
                <a:gd name="adj1" fmla="val 50000"/>
                <a:gd name="adj2" fmla="val 1305425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3151800" y="4623840"/>
              <a:ext cx="169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7220000">
              <a:off x="2431800" y="4484520"/>
              <a:ext cx="2092320" cy="190440"/>
            </a:xfrm>
            <a:prstGeom prst="leftArrow">
              <a:avLst>
                <a:gd name="adj1" fmla="val 50000"/>
                <a:gd name="adj2" fmla="val 274669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7220000">
              <a:off x="2318400" y="4572000"/>
              <a:ext cx="17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5198760" y="4198320"/>
              <a:ext cx="1793880" cy="558720"/>
            </a:xfrm>
            <a:prstGeom prst="leftArrow">
              <a:avLst>
                <a:gd name="adj1" fmla="val 50000"/>
                <a:gd name="adj2" fmla="val 80267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200000">
              <a:off x="4969080" y="4523760"/>
              <a:ext cx="149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58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5880" y="3502080"/>
              <a:ext cx="1905120" cy="168120"/>
            </a:xfrm>
            <a:prstGeom prst="rightArrow">
              <a:avLst>
                <a:gd name="adj1" fmla="val 50000"/>
                <a:gd name="adj2" fmla="val 283298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40480" y="330192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4080000">
              <a:off x="5518800" y="4537440"/>
              <a:ext cx="2183040" cy="114480"/>
            </a:xfrm>
            <a:prstGeom prst="rightArrow">
              <a:avLst>
                <a:gd name="adj1" fmla="val 50000"/>
                <a:gd name="adj2" fmla="val 47673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4080000">
              <a:off x="5910480" y="4580640"/>
              <a:ext cx="188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65640" y="3182760"/>
              <a:ext cx="1015920" cy="79704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f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7920" y="3182760"/>
              <a:ext cx="1015920" cy="79704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3520" y="557388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92360" y="557388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81560" y="557388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21360" y="557388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01000" y="3182760"/>
              <a:ext cx="1015920" cy="7970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inu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D46-8173-48AA-A3A4-4E63613476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838080"/>
            <a:ext cx="87631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33cc"/>
                </a:solidFill>
                <a:uFillTx/>
                <a:latin typeface="Arial"/>
                <a:cs typeface="Arial"/>
              </a:rPr>
              <a:t>הגדרת משתנה חדש במערכת ויצירת הגרף המתאי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76320" y="6464160"/>
            <a:ext cx="533160" cy="470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2438280" cy="1365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2209680" cy="1242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1523880" y="1676520"/>
            <a:ext cx="2362320" cy="1312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038480" y="1463760"/>
            <a:ext cx="152640" cy="1431720"/>
          </a:xfrm>
          <a:custGeom>
            <a:avLst/>
            <a:gdLst>
              <a:gd name="textAreaLeft" fmla="*/ 0 w 152640"/>
              <a:gd name="textAreaRight" fmla="*/ 55080 w 152640"/>
              <a:gd name="textAreaTop" fmla="*/ 37080 h 1431720"/>
              <a:gd name="textAreaBottom" fmla="*/ 1394640 h 14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1768320"/>
            <a:ext cx="2743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33cc"/>
                </a:solidFill>
                <a:latin typeface="Arial"/>
              </a:rPr>
              <a:t>שלב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: הגדרת המשתנ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2590920" y="3013200"/>
            <a:ext cx="2133360" cy="1406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876920" y="312408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3013200"/>
            <a:ext cx="27432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33cc"/>
                </a:solidFill>
                <a:latin typeface="Arial"/>
              </a:rPr>
              <a:t>שלב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: עיבוד המידע על התאריכים הרצוי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3429000" y="4497480"/>
            <a:ext cx="2057400" cy="1217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4038480" y="47242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19920" y="4724280"/>
            <a:ext cx="2743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33cc"/>
                </a:solidFill>
                <a:latin typeface="Arial"/>
              </a:rPr>
              <a:t>שלב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: בניית הטבלאות והגרפים הרצוי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4648320"/>
            <a:ext cx="75960" cy="1295280"/>
          </a:xfrm>
          <a:custGeom>
            <a:avLst/>
            <a:gdLst>
              <a:gd name="textAreaLeft" fmla="*/ 0 w 75960"/>
              <a:gd name="textAreaRight" fmla="*/ 2736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ממש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5ED-0D64-4924-9D80-A3B3E1E246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תרחישים מיוחד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914400"/>
            <a:ext cx="7239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בנק בארה"ב: </a:t>
            </a:r>
            <a:r>
              <a:rPr b="1" lang="hi-IN" sz="2000" spc="-1" strike="noStrike">
                <a:solidFill>
                  <a:srgbClr val="e42b00"/>
                </a:solidFill>
                <a:latin typeface="Arial"/>
                <a:cs typeface="Arial"/>
              </a:rPr>
              <a:t>קצב הגעת לקוחות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בימי שלישי בספטמב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676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171-E88E-4461-97C9-E3F09D462E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תרחישים מיוחד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7246800" cy="44481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914400" y="914400"/>
            <a:ext cx="63244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בנק בישראל: היסטוגרמה של </a:t>
            </a:r>
            <a:r>
              <a:rPr b="1" lang="hi-IN" sz="2000" spc="-1" strike="noStrike">
                <a:solidFill>
                  <a:srgbClr val="e42b00"/>
                </a:solidFill>
                <a:latin typeface="Arial"/>
                <a:cs typeface="Arial"/>
              </a:rPr>
              <a:t>זמני המתנ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A83-365D-46C3-B83E-EC4FB6F881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תרחישים מיוחד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1136520" y="1805040"/>
            <a:ext cx="6864480" cy="4214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62120" y="838080"/>
            <a:ext cx="7238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בנק בארה"ב: היסטוגרמה של </a:t>
            </a:r>
            <a:r>
              <a:rPr b="1" lang="hi-IN" sz="2000" spc="-1" strike="noStrike">
                <a:solidFill>
                  <a:srgbClr val="e42b00"/>
                </a:solidFill>
                <a:latin typeface="Arial"/>
                <a:cs typeface="Arial"/>
              </a:rPr>
              <a:t>זמני שירות </a:t>
            </a: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במוקדי מסחר</a:t>
            </a:r>
            <a:r>
              <a:rPr b="1" lang="en-US" sz="2000" spc="-1" strike="noStrike">
                <a:solidFill>
                  <a:srgbClr val="e42b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200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B40-D8E4-47DD-A2B0-ADB68248A0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תרחישים מיוחד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914400"/>
            <a:ext cx="54104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מוקד טלפוני ישראלי: שירות תמיכה טכני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343400" cy="26672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267080" y="1676520"/>
            <a:ext cx="4800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שיחות </a:t>
            </a:r>
            <a:r>
              <a:rPr b="1" lang="hi-IN" sz="2000" spc="-1" strike="noStrike">
                <a:solidFill>
                  <a:srgbClr val="e42b00"/>
                </a:solidFill>
                <a:latin typeface="Arial"/>
                <a:cs typeface="Arial"/>
              </a:rPr>
              <a:t>שלא טופלו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בתאריך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24/05/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228600" y="327672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-28440" y="2773440"/>
            <a:ext cx="4724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e42b00"/>
                </a:solidFill>
                <a:latin typeface="Arial"/>
                <a:cs typeface="Arial"/>
              </a:rPr>
              <a:t>סטאטוס מוקדנים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בתאריך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24/05/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DD3-7603-42CF-9976-531069C2C5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תרחישים מיוחד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0440" y="1066680"/>
            <a:ext cx="8953560" cy="4978440"/>
            <a:chOff x="190440" y="1066680"/>
            <a:chExt cx="8953560" cy="4978440"/>
          </a:xfrm>
        </p:grpSpPr>
        <p:sp>
          <p:nvSpPr>
            <p:cNvPr id="330" name=""/>
            <p:cNvSpPr/>
            <p:nvPr/>
          </p:nvSpPr>
          <p:spPr>
            <a:xfrm>
              <a:off x="2413080" y="1066680"/>
              <a:ext cx="467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 April  2004 – Heavily Loaded 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01000" y="1852560"/>
              <a:ext cx="1015920" cy="142920"/>
            </a:xfrm>
            <a:prstGeom prst="rightArrow">
              <a:avLst>
                <a:gd name="adj1" fmla="val 50000"/>
                <a:gd name="adj2" fmla="val 17770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01000" y="181764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69160" y="1832040"/>
              <a:ext cx="20318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01000" y="2062080"/>
              <a:ext cx="1015920" cy="144720"/>
            </a:xfrm>
            <a:prstGeom prst="rightArrow">
              <a:avLst>
                <a:gd name="adj1" fmla="val 50000"/>
                <a:gd name="adj2" fmla="val 175498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01000" y="202716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69160" y="2043000"/>
              <a:ext cx="20318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01000" y="2273400"/>
              <a:ext cx="1015920" cy="142920"/>
            </a:xfrm>
            <a:prstGeom prst="rightArrow">
              <a:avLst>
                <a:gd name="adj1" fmla="val 50000"/>
                <a:gd name="adj2" fmla="val 17770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01000" y="223848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69160" y="2254320"/>
              <a:ext cx="20318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normal 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4160" y="1392120"/>
              <a:ext cx="1079280" cy="123840"/>
            </a:xfrm>
            <a:prstGeom prst="rightArrow">
              <a:avLst>
                <a:gd name="adj1" fmla="val 50000"/>
                <a:gd name="adj2" fmla="val 217878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0440" y="120024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1372320" y="1778400"/>
              <a:ext cx="824040" cy="165240"/>
            </a:xfrm>
            <a:prstGeom prst="leftArrow">
              <a:avLst>
                <a:gd name="adj1" fmla="val 50000"/>
                <a:gd name="adj2" fmla="val 124673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1309320" y="1874880"/>
              <a:ext cx="58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5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3060000">
              <a:off x="1593000" y="2324880"/>
              <a:ext cx="2306880" cy="38160"/>
            </a:xfrm>
            <a:prstGeom prst="rightArrow">
              <a:avLst>
                <a:gd name="adj1" fmla="val 50000"/>
                <a:gd name="adj2" fmla="val 1511321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3060000">
              <a:off x="1944360" y="2264040"/>
              <a:ext cx="206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33440" y="1114560"/>
              <a:ext cx="889200" cy="669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4160" y="2712960"/>
              <a:ext cx="1079280" cy="277920"/>
            </a:xfrm>
            <a:prstGeom prst="rightArrow">
              <a:avLst>
                <a:gd name="adj1" fmla="val 50000"/>
                <a:gd name="adj2" fmla="val 97085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0440" y="252252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6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1373040" y="3074760"/>
              <a:ext cx="822240" cy="368280"/>
            </a:xfrm>
            <a:prstGeom prst="leftArrow">
              <a:avLst>
                <a:gd name="adj1" fmla="val 50000"/>
                <a:gd name="adj2" fmla="val 55816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1312560" y="3166920"/>
              <a:ext cx="58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58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380000">
              <a:off x="1704960" y="3109680"/>
              <a:ext cx="1905120" cy="28440"/>
            </a:xfrm>
            <a:prstGeom prst="rightArrow">
              <a:avLst>
                <a:gd name="adj1" fmla="val 50000"/>
                <a:gd name="adj2" fmla="val 1674684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380000">
              <a:off x="2099880" y="2987280"/>
              <a:ext cx="158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33440" y="2513160"/>
              <a:ext cx="889200" cy="6696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nou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4160" y="3909960"/>
              <a:ext cx="1079280" cy="669960"/>
            </a:xfrm>
            <a:prstGeom prst="rightArrow">
              <a:avLst>
                <a:gd name="adj1" fmla="val 50000"/>
                <a:gd name="adj2" fmla="val 40274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0440" y="371952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78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1365840" y="4313880"/>
              <a:ext cx="823680" cy="685800"/>
            </a:xfrm>
            <a:prstGeom prst="leftArrow">
              <a:avLst>
                <a:gd name="adj1" fmla="val 50000"/>
                <a:gd name="adj2" fmla="val 30026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1147320" y="4564080"/>
              <a:ext cx="58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38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0280000">
              <a:off x="1711440" y="3767040"/>
              <a:ext cx="1892160" cy="430200"/>
            </a:xfrm>
            <a:prstGeom prst="rightArrow">
              <a:avLst>
                <a:gd name="adj1" fmla="val 50000"/>
                <a:gd name="adj2" fmla="val 109958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0280000">
              <a:off x="1946520" y="353016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39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33440" y="3909960"/>
              <a:ext cx="889200" cy="669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4160" y="5537160"/>
              <a:ext cx="1079280" cy="211320"/>
            </a:xfrm>
            <a:prstGeom prst="rightArrow">
              <a:avLst>
                <a:gd name="adj1" fmla="val 50000"/>
                <a:gd name="adj2" fmla="val 127683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0440" y="534672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9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8540000">
              <a:off x="1587960" y="4610520"/>
              <a:ext cx="2297160" cy="279360"/>
            </a:xfrm>
            <a:prstGeom prst="rightArrow">
              <a:avLst>
                <a:gd name="adj1" fmla="val 50000"/>
                <a:gd name="adj2" fmla="val 205573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540000">
              <a:off x="1660680" y="4351320"/>
              <a:ext cx="205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9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33440" y="5308560"/>
              <a:ext cx="889200" cy="669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00680" y="3344760"/>
              <a:ext cx="1714320" cy="422280"/>
            </a:xfrm>
            <a:prstGeom prst="rightArrow">
              <a:avLst>
                <a:gd name="adj1" fmla="val 50000"/>
                <a:gd name="adj2" fmla="val 101492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44920" y="3154320"/>
              <a:ext cx="13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28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4380000">
              <a:off x="3385080" y="4478760"/>
              <a:ext cx="2011320" cy="76320"/>
            </a:xfrm>
            <a:prstGeom prst="rightArrow">
              <a:avLst>
                <a:gd name="adj1" fmla="val 50000"/>
                <a:gd name="adj2" fmla="val 658844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4380000">
              <a:off x="3735720" y="4517280"/>
              <a:ext cx="172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3042720" y="4487760"/>
              <a:ext cx="1914480" cy="50760"/>
            </a:xfrm>
            <a:prstGeom prst="rightArrow">
              <a:avLst>
                <a:gd name="adj1" fmla="val 50000"/>
                <a:gd name="adj2" fmla="val 942908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3312360" y="4550760"/>
              <a:ext cx="162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7220000">
              <a:off x="2604240" y="4377240"/>
              <a:ext cx="2011320" cy="279360"/>
            </a:xfrm>
            <a:prstGeom prst="leftArrow">
              <a:avLst>
                <a:gd name="adj1" fmla="val 50000"/>
                <a:gd name="adj2" fmla="val 179994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7220000">
              <a:off x="2444760" y="4493880"/>
              <a:ext cx="172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79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6200000">
              <a:off x="5354640" y="4170240"/>
              <a:ext cx="1724040" cy="495000"/>
            </a:xfrm>
            <a:prstGeom prst="leftArrow">
              <a:avLst>
                <a:gd name="adj1" fmla="val 50000"/>
                <a:gd name="adj2" fmla="val 87073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5150160" y="4455360"/>
              <a:ext cx="143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97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22960" y="3460680"/>
              <a:ext cx="1905120" cy="181080"/>
            </a:xfrm>
            <a:prstGeom prst="rightArrow">
              <a:avLst>
                <a:gd name="adj1" fmla="val 50000"/>
                <a:gd name="adj2" fmla="val 263022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67560" y="3268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1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4080000">
              <a:off x="5695560" y="4476600"/>
              <a:ext cx="2095560" cy="101880"/>
            </a:xfrm>
            <a:prstGeom prst="rightArrow">
              <a:avLst>
                <a:gd name="adj1" fmla="val 50000"/>
                <a:gd name="adj2" fmla="val 514223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4080000">
              <a:off x="6073920" y="4509360"/>
              <a:ext cx="18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92360" y="3173400"/>
              <a:ext cx="1016280" cy="76536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f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15000" y="3173400"/>
              <a:ext cx="1015920" cy="7653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0600" y="5470560"/>
              <a:ext cx="76176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19440" y="5470560"/>
              <a:ext cx="76212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08640" y="5470560"/>
              <a:ext cx="76176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48440" y="5470560"/>
              <a:ext cx="76212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28080" y="3173400"/>
              <a:ext cx="1015920" cy="765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inu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66A-8F15-4FCA-9CCC-2C4E3A8EA1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90720"/>
            <a:ext cx="9144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cs typeface="Arial"/>
              </a:rPr>
              <a:t>מטרת הפרויקט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cs typeface="Arial"/>
              </a:rPr>
              <a:t>תכנון ויצירת מאגר מידע (אוניברסלי) וממשק מתאים עבו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cs typeface="Arial"/>
              </a:rPr>
              <a:t>אחסון, אחזור, ניתוח והצגה ש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cs typeface="Arial"/>
              </a:rPr>
              <a:t>נתוני שיחות פרטניים (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Call-by-Call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) ממוקדי שירות טלפונ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(תפעוליים, אח"כ עסקיים, ולבסוף שילוב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581280"/>
            <a:ext cx="87631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 u="sng">
                <a:solidFill>
                  <a:srgbClr val="0033cc"/>
                </a:solidFill>
                <a:uFillTx/>
                <a:latin typeface="Arial"/>
                <a:cs typeface="Arial"/>
              </a:rPr>
              <a:t>ניתוח התנהגות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לקוחו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נותני שירות \ מוקדנ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מנהלים \ מערכ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267080"/>
            <a:ext cx="4647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33cc"/>
                </a:solidFill>
                <a:latin typeface="Arial"/>
                <a:cs typeface="Arial"/>
              </a:rPr>
              <a:t>המתנה, נטישות, חזר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564160"/>
            <a:ext cx="4647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33cc"/>
                </a:solidFill>
                <a:latin typeface="Arial"/>
                <a:cs typeface="Arial"/>
              </a:rPr>
              <a:t>אורכי תורים, עומסים, מגמ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4878360"/>
            <a:ext cx="4647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33cc"/>
                </a:solidFill>
                <a:latin typeface="Arial"/>
                <a:cs typeface="Arial"/>
              </a:rPr>
              <a:t>משכי שירות, פרופיל תעסוק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C6B-C6A3-496C-B4F3-2105CE404D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971800"/>
            <a:ext cx="876312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33cc"/>
                </a:solidFill>
                <a:uFillTx/>
                <a:latin typeface="Arial"/>
                <a:cs typeface="Arial"/>
              </a:rPr>
              <a:t>רכיבי המערכת :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מאגרי מידע נקיים הכוללים פרטי שיחות נכנסות, פרטי פעילות נותני השירות ומידע כללי על המערכ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ממשק ידידותי למשתמש המאפשר גישה נוחה ומהירה לידע תפעולי וניהול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143000"/>
            <a:ext cx="876312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33cc"/>
                </a:solidFill>
                <a:uFillTx/>
                <a:latin typeface="Arial"/>
                <a:cs typeface="Arial"/>
              </a:rPr>
              <a:t>מאגרי המידע הפעילים במערכת כיו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מאגר מידע של מוקדי השירות הטלפוני של חברה סלולארית ישראלי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מאגר מידע של מוקדי השירות הטלפוני של בנק גדול בארה"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28600" y="2095560"/>
            <a:ext cx="1828800" cy="1485360"/>
            <a:chOff x="228600" y="2095560"/>
            <a:chExt cx="1828800" cy="148536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28600" y="2095560"/>
              <a:ext cx="13716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80880" y="2247480"/>
              <a:ext cx="13716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533520" y="2400120"/>
              <a:ext cx="1371600" cy="10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685800" y="2552400"/>
              <a:ext cx="1371600" cy="102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152280" y="4800600"/>
            <a:ext cx="2590560" cy="1390320"/>
            <a:chOff x="152280" y="4800600"/>
            <a:chExt cx="2590560" cy="1390320"/>
          </a:xfrm>
        </p:grpSpPr>
        <p:graphicFrame>
          <p:nvGraphicFramePr>
            <p:cNvPr id="72" name=""/>
            <p:cNvGraphicFramePr/>
            <p:nvPr/>
          </p:nvGraphicFramePr>
          <p:xfrm>
            <a:off x="152280" y="4800600"/>
            <a:ext cx="1992960" cy="10411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280" y="4800600"/>
                      <a:ext cx="199296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51720" y="4971600"/>
            <a:ext cx="1992240" cy="1027080"/>
          </p:xfrm>
          <a:graphic>
            <a:graphicData uri="http://schemas.openxmlformats.org/presentationml/2006/ole">
              <p:oleObj progId="Excel.Sheet.12" r:id="rId8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51720" y="4971600"/>
                      <a:ext cx="1992240" cy="10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650520" y="5142600"/>
            <a:ext cx="2092320" cy="1048320"/>
          </p:xfrm>
          <a:graphic>
            <a:graphicData uri="http://schemas.openxmlformats.org/presentationml/2006/ole">
              <p:oleObj progId="Excel.Sheet.12" r:id="rId10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50520" y="5142600"/>
                      <a:ext cx="2092320" cy="104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8" name="" descr=""/>
          <p:cNvPicPr/>
          <p:nvPr/>
        </p:nvPicPr>
        <p:blipFill>
          <a:blip r:embed="rId12"/>
          <a:stretch/>
        </p:blipFill>
        <p:spPr>
          <a:xfrm>
            <a:off x="76320" y="6464160"/>
            <a:ext cx="533160" cy="47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954-4343-413E-AC6F-9B4342245B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מאגר המיד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1295280"/>
            <a:ext cx="70102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מאגרי המידע הנקיים מכילים מידע פרטני על שיח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נכנסות, יוצאות, פעילויות נציגי שירות, ..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שיחה נכנסת (בד"כ) מחולקת למספר מקטעי זמן (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segments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למשל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8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oice Response Unit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)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RU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8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הודע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8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שיר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3000" y="4876920"/>
            <a:ext cx="5257800" cy="596520"/>
            <a:chOff x="1143000" y="4876920"/>
            <a:chExt cx="5257800" cy="596520"/>
          </a:xfrm>
        </p:grpSpPr>
        <p:sp>
          <p:nvSpPr>
            <p:cNvPr id="86" name=""/>
            <p:cNvSpPr/>
            <p:nvPr/>
          </p:nvSpPr>
          <p:spPr>
            <a:xfrm flipH="1">
              <a:off x="1388520" y="4876920"/>
              <a:ext cx="47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88520" y="5257440"/>
              <a:ext cx="47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61000" y="487692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97920" y="487692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34040" y="4952880"/>
              <a:ext cx="113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V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55280" y="5105160"/>
              <a:ext cx="2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5105160"/>
              <a:ext cx="2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4440" y="4952880"/>
              <a:ext cx="113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cc66"/>
                  </a:solidFill>
                  <a:latin typeface="Arial"/>
                </a:rPr>
                <a:t>הודעו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36920" y="4952880"/>
              <a:ext cx="113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33cc"/>
                  </a:solidFill>
                  <a:latin typeface="Arial"/>
                </a:rPr>
                <a:t>שירו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5DC-4006-4C0E-9086-9ADA38A300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876312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מאפייני שיחה נכנסת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8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שיחה נכנסת יכולה להיות מורכבת ממספר תתי שיחות, אם הלקוח מעוניין ביותר משירות אח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8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מקטעי הזמן עלולים להיות מורכבים מסיבות כמו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cs typeface="Arial"/>
              </a:rPr>
              <a:t>א. לקוח יכול לעבור מנותן שירות אחד לנותן שירות אח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cs typeface="Arial"/>
              </a:rPr>
              <a:t>ב. לקוח יכול להיות ב-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hold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 במהלך שירות עם מוקד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מאגר המיד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145-19AC-4BD6-B4CD-2682AFC521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ממש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219320"/>
            <a:ext cx="8763120" cy="49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33cc"/>
                </a:solidFill>
                <a:uFillTx/>
                <a:latin typeface="Arial"/>
                <a:cs typeface="Arial"/>
              </a:rPr>
              <a:t>מאפייני המערכת: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יכולת לייצר דו"ח יומי\חדשי\שנתי על מנת להראות למשתמש תמונה מלא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יכולת לייצר גרפים וטבלאות ברזולוציות שונות (מחודש ועד שניות) עבור מדדי תפעול מגוונים (קבועים מראש/ מובנים) כגון:  אחוזי הנוטשים באינטרוולים של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5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דקות,  התפלגות זמן ההמתנה, מספר שיחות נכנסות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  <a:cs typeface="Arial"/>
              </a:rPr>
              <a:t>המשתמש יכול להגדיר במערכת מדדים חדשים ולייצר עבורם גרפים וטבלא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43000" y="4800600"/>
            <a:ext cx="190512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036-F7B0-4C4F-8A62-2A5D00EE55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914400"/>
            <a:ext cx="59436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33cc"/>
                </a:solidFill>
                <a:uFillTx/>
                <a:latin typeface="Arial"/>
                <a:cs typeface="Arial"/>
              </a:rPr>
              <a:t>מדדי תפעול מובנים במערכת: אחוזי נטישו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ממש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1600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3300"/>
                </a:solidFill>
                <a:latin typeface="Arial"/>
              </a:rPr>
              <a:t>סדרות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e-IL" sz="2000" spc="-1" strike="noStrike">
                <a:solidFill>
                  <a:srgbClr val="ff3300"/>
                </a:solidFill>
                <a:latin typeface="Arial"/>
              </a:rPr>
              <a:t>עתיות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ime Serie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43000" y="2057400"/>
          <a:ext cx="6934320" cy="406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057400"/>
                    <a:ext cx="69343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D4D-C8BF-4F00-B7C8-69A77A44CE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914400"/>
            <a:ext cx="7010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33cc"/>
                </a:solidFill>
                <a:uFillTx/>
                <a:latin typeface="Arial"/>
                <a:cs typeface="Arial"/>
              </a:rPr>
              <a:t>מדדי תפעול מובנים במערכת: קצב הגעת לקוחות,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2/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ממש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600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ross Tab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5240" y="1981080"/>
          <a:ext cx="7553520" cy="416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240" y="1981080"/>
                    <a:ext cx="7553520" cy="41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95C-7CB8-48F8-81BC-17ECCE474E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914400"/>
            <a:ext cx="66294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33cc"/>
                </a:solidFill>
                <a:uFillTx/>
                <a:latin typeface="Arial"/>
                <a:cs typeface="Arial"/>
              </a:rPr>
              <a:t>מדדי תפעול מובנים במערכת: משכי שירו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פרויקט 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ממש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1600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Arial"/>
              </a:rPr>
              <a:t>היסטוגרמ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3000" y="2133720"/>
          <a:ext cx="6934320" cy="388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133720"/>
                    <a:ext cx="6934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35F-FFB8-48F1-9998-B8E0934A3F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4:40:28Z</dcterms:created>
  <dc:creator>Sivan Admor</dc:creator>
  <dc:description/>
  <dc:language>en-US</dc:language>
  <cp:lastModifiedBy>Sivan Admor</cp:lastModifiedBy>
  <dcterms:modified xsi:type="dcterms:W3CDTF">2006-09-20T17:15:15Z</dcterms:modified>
  <cp:revision>78</cp:revision>
  <dc:subject/>
  <dc:title>Slide 1</dc:title>
</cp:coreProperties>
</file>